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3CEB9B-A171-496B-87BC-625C0DDC822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C0FC5E-38D4-41FC-A082-7B93D1492BB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42D-C609-4B74-A201-9AA337D2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767-2788-41DE-8AB8-4017162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A1B-B36B-4753-A890-33EE7A81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8D6-F1C5-4BEC-AEE1-AABC02F8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474-0597-4EE7-9B5F-568A3CEB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316-3BED-4942-9CCC-74E21E1E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294-A8B6-4C81-B623-BD42D31D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1DD-73D7-4DEE-8AB9-6052974D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2E5-E095-46FE-ABA6-64E6A7EB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B61-3949-4887-AD84-73E268E8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971-54E5-44CD-B3F8-F8E30AF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D3DE-6E70-4D22-A11C-0256411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367-D716-4646-9009-334A60D5AA18}" type="datetime2">
              <a:rPr b="0" lang="en-GB" sz="1400" spc="-1" strike="noStrike">
                <a:solidFill>
                  <a:srgbClr val="ffffff"/>
                </a:solidFill>
                <a:latin typeface="Arial"/>
              </a:rPr>
              <a:t>Wednesday 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DC10-D8DA-41CF-95E3-904C4840C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ars.cs.unp.ac.za/lisp/" TargetMode="External"/><Relationship Id="rId2" Type="http://schemas.openxmlformats.org/officeDocument/2006/relationships/hyperlink" Target="http://www.csupomona.edu/~jrfisher/www/prolog_tutorial/intro.html" TargetMode="External"/><Relationship Id="rId3" Type="http://schemas.openxmlformats.org/officeDocument/2006/relationships/hyperlink" Target="http://www.smalltalk.org/articles/article_20040000_11.html" TargetMode="External"/><Relationship Id="rId4" Type="http://schemas.openxmlformats.org/officeDocument/2006/relationships/hyperlink" Target="http://www.smalltalk.org/articles/article_20040000_11.html" TargetMode="External"/><Relationship Id="rId5" Type="http://schemas.openxmlformats.org/officeDocument/2006/relationships/hyperlink" Target="ftp://ftp.inria.fr/INRIA/publication/publi-pdf/RT/RT-0072.pdf" TargetMode="External"/><Relationship Id="rId6" Type="http://schemas.openxmlformats.org/officeDocument/2006/relationships/hyperlink" Target="http://hopl.murdoch.edu.au/showlanguage.prx?exp=1156&amp;language=KL-ONE" TargetMode="External"/><Relationship Id="rId7" Type="http://schemas.openxmlformats.org/officeDocument/2006/relationships/hyperlink" Target="http://www.inf.unibz.it/~franconi/dl/course/" TargetMode="External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ommonkads.uva.nl/" TargetMode="External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s.umd.edu/projects/plus/SHOE/cs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loa-cnr.it/" TargetMode="Externa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fkb/related.html" TargetMode="External"/><Relationship Id="rId2" Type="http://schemas.openxmlformats.org/officeDocument/2006/relationships/hyperlink" Target="http://www.cs.utexas.edu/users/mfkb/related.html" TargetMode="External"/><Relationship Id="rId3" Type="http://schemas.openxmlformats.org/officeDocument/2006/relationships/hyperlink" Target="http://www.irit.fr/GRACQ/index-bib.html" TargetMode="External"/><Relationship Id="rId4" Type="http://schemas.openxmlformats.org/officeDocument/2006/relationships/hyperlink" Target="http://www.irit.fr/GRACQ/COURS/CoursFabienGandon.htm" TargetMode="External"/><Relationship Id="rId5" Type="http://schemas.openxmlformats.org/officeDocument/2006/relationships/hyperlink" Target="http://www.irit.fr/GRACQ/COURS/CoursFabienGandon.htm" TargetMode="External"/><Relationship Id="rId6" Type="http://schemas.openxmlformats.org/officeDocument/2006/relationships/hyperlink" Target="http://www.loa-cnr.it/odcm.html" TargetMode="External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aaai.org/AITopics/html/history.html" TargetMode="External"/><Relationship Id="rId2" Type="http://schemas.openxmlformats.org/officeDocument/2006/relationships/hyperlink" Target="https://www.aaai.org/AITopics/html/history.html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history.mcs.st-andrews.ac.uk/Mathematicians/Turing.html" TargetMode="External"/><Relationship Id="rId2" Type="http://schemas.openxmlformats.org/officeDocument/2006/relationships/hyperlink" Target="http://mathworld.wolfram.com/UniversalTuringMachine.html" TargetMode="External"/><Relationship Id="rId3" Type="http://schemas.openxmlformats.org/officeDocument/2006/relationships/hyperlink" Target="http://en.wikipedia.org/wiki/Von_Neumann_architecture#References" TargetMode="External"/><Relationship Id="rId4" Type="http://schemas.openxmlformats.org/officeDocument/2006/relationships/hyperlink" Target="http://www-history.mcs.st-andrews.ac.uk/Mathematicians/Wiener_Norbert.html" TargetMode="External"/><Relationship Id="rId5" Type="http://schemas.openxmlformats.org/officeDocument/2006/relationships/hyperlink" Target="http://pespmc1.vub.ac.be/CYBSWHAT.html" TargetMode="External"/><Relationship Id="rId6" Type="http://schemas.openxmlformats.org/officeDocument/2006/relationships/hyperlink" Target="http://www.bell-labs.com/news/2001/february/26/1.html" TargetMode="External"/><Relationship Id="rId7" Type="http://schemas.openxmlformats.org/officeDocument/2006/relationships/hyperlink" Target="http://www.inference.phy.cam.ac.uk/mackay/info-theory/course.html" TargetMode="External"/><Relationship Id="rId8" Type="http://schemas.openxmlformats.org/officeDocument/2006/relationships/hyperlink" Target="http://www.cite-sciences.fr/francais/ala_cite/expo/explora/informatique/info_c.htm" TargetMode="External"/><Relationship Id="rId9" Type="http://schemas.openxmlformats.org/officeDocument/2006/relationships/hyperlink" Target="http://www.cite-sciences.fr/francais/ala_cite/expo/explora/informatique/info_c.htm" TargetMode="External"/><Relationship Id="rId10" Type="http://schemas.openxmlformats.org/officeDocument/2006/relationships/hyperlink" Target="http://www.cite-sciences.fr/francais/ala_cite/expo/explora/informatique/info_c.htm" TargetMode="External"/><Relationship Id="rId11" Type="http://schemas.openxmlformats.org/officeDocument/2006/relationships/hyperlink" Target="http://www.doc.ic.ac.uk/~nd/surprise_96/journal/vol4/cs11/report.html" TargetMode="External"/><Relationship Id="rId1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search.ibm.com/deepblue/" TargetMode="External"/><Relationship Id="rId2" Type="http://schemas.openxmlformats.org/officeDocument/2006/relationships/hyperlink" Target="http://www.ee.cooper.edu/courses/course_pages/past_courses/EE459/AIHO9/" TargetMode="External"/><Relationship Id="rId3" Type="http://schemas.openxmlformats.org/officeDocument/2006/relationships/hyperlink" Target="http://jerz.setonhill.edu/if/canon/eliza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rofiles.nlm.nih.gov/BB/A/L/Y/P/_/bbalyp.pdf" TargetMode="External"/><Relationship Id="rId2" Type="http://schemas.openxmlformats.org/officeDocument/2006/relationships/hyperlink" Target="http://www.computing.surrey.ac.uk/research/ai/PROFILE/mycin.html" TargetMode="External"/><Relationship Id="rId3" Type="http://schemas.openxmlformats.org/officeDocument/2006/relationships/hyperlink" Target="http://www.computing.surrey.ac.uk/ai/PROFILE/prospector.html" TargetMode="External"/><Relationship Id="rId4" Type="http://schemas.openxmlformats.org/officeDocument/2006/relationships/hyperlink" Target="http://www.mdbs.com/html/guru.html" TargetMode="External"/><Relationship Id="rId5" Type="http://schemas.openxmlformats.org/officeDocument/2006/relationships/hyperlink" Target="http://www.ghg.net/clips/WhatIsCLIPS.html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rtificial Intelligence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n 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in M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RIS CNRS UMR 52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é Lyon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ormal systems for inference proces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build systems able to infer true things from other true things…(of the world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ic appr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actic refor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decla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553-AA3A-4A08-BCA6-062F7E4CCD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5BC81-48BD-4342-B63E-AEB975071BB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al syst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93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uilding a formal system, we need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lphabet, i.e. a set of symbols (not necessary charact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cess to build expressions (not necessary concatenation) =&gt; Expression Building Process (EB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t of axioms , i.e. expressions written according to 1 and 2. These expressions belongs (arbitrarily) to the “system” (are “tru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ation rules which, starting from existing axioms, are able to produc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or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ions belonging now to the system) and which can be applied (to produced theorems) in order to produce new 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895-2DC6-416E-8EF3-27E0079117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931FE-10F0-4B71-B444-466C47ED11D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 of a formal system 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O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phabet = set of 3 symbols "p" , "e" , and “o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BP = concate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xiom = opoeo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ivation rules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: if an expression AeB is a theorem (where "A" and “B” stand for any suite of "o", "p", or "e"), then expression oAeBo is also a theor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2 : if an expression AeB is a theorem , then expression AoeoB is also a theor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1 = oopooeoooo is a theorem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2 = opooeoooo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3 = opopoeooo ?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E7E-6182-41E3-A339-10A94B88F6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9C38B-755A-4CC1-A49C-FBBB8967A5E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orem demonstr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ystem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mi-decid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we have a provable process to decide that an expression is a theorem, but we do not have a provable process to decide that an expression is not a theor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3240" y="1268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poeo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59600" y="1484280"/>
            <a:ext cx="3569040" cy="944640"/>
            <a:chOff x="2559600" y="1484280"/>
            <a:chExt cx="3569040" cy="944640"/>
          </a:xfrm>
        </p:grpSpPr>
        <p:sp>
          <p:nvSpPr>
            <p:cNvPr id="76" name=""/>
            <p:cNvSpPr/>
            <p:nvPr/>
          </p:nvSpPr>
          <p:spPr>
            <a:xfrm>
              <a:off x="2559600" y="206064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opoe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5960" y="206064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pooe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4" idx="2"/>
              <a:endCxn id="76" idx="0"/>
            </p:cNvCxnSpPr>
            <p:nvPr/>
          </p:nvCxnSpPr>
          <p:spPr>
            <a:xfrm flipH="1">
              <a:off x="3155400" y="1635120"/>
              <a:ext cx="1097640" cy="426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4" idx="2"/>
              <a:endCxn id="77" idx="0"/>
            </p:cNvCxnSpPr>
            <p:nvPr/>
          </p:nvCxnSpPr>
          <p:spPr>
            <a:xfrm>
              <a:off x="4253040" y="1635120"/>
              <a:ext cx="1280160" cy="426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3278880" y="14842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61440" y="1557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551960" y="2349360"/>
            <a:ext cx="3030120" cy="943200"/>
            <a:chOff x="1551960" y="2349360"/>
            <a:chExt cx="3030120" cy="943200"/>
          </a:xfrm>
        </p:grpSpPr>
        <p:sp>
          <p:nvSpPr>
            <p:cNvPr id="83" name=""/>
            <p:cNvSpPr/>
            <p:nvPr/>
          </p:nvSpPr>
          <p:spPr>
            <a:xfrm>
              <a:off x="1551960" y="29242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oopoeo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36320" y="29242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opooeo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5" name=""/>
            <p:cNvCxnSpPr>
              <a:stCxn id="76" idx="2"/>
              <a:endCxn id="83" idx="0"/>
            </p:cNvCxnSpPr>
            <p:nvPr/>
          </p:nvCxnSpPr>
          <p:spPr>
            <a:xfrm flipH="1">
              <a:off x="2274480" y="2426760"/>
              <a:ext cx="882000" cy="497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6" name=""/>
            <p:cNvCxnSpPr>
              <a:stCxn id="76" idx="2"/>
              <a:endCxn id="84" idx="0"/>
            </p:cNvCxnSpPr>
            <p:nvPr/>
          </p:nvCxnSpPr>
          <p:spPr>
            <a:xfrm>
              <a:off x="3155760" y="2426760"/>
              <a:ext cx="703800" cy="497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1981800" y="2349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0160" y="24210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84360" y="5157720"/>
            <a:ext cx="6910200" cy="93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you are humans (having learned mathematical addition) it should be helpful to read « p » as « plus », o as « one » and « e » as « equals » (opoe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plus one equals one o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FAD-B27F-45DD-8605-0972EFB3C4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E7ACF-5CBA-454E-9D50-DA71FF7B361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Base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=&gt; Knowledge Based Syst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13000"/>
            <a:ext cx="2663640" cy="26636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ain knowl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ules, constraints, case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Axiom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4160" y="1268280"/>
            <a:ext cx="2663640" cy="2664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 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Axioms and Theorem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3440" y="2852640"/>
            <a:ext cx="1152360" cy="2592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500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4160" y="3068640"/>
            <a:ext cx="790560" cy="431640"/>
          </a:xfrm>
          <a:prstGeom prst="leftRightArrow">
            <a:avLst>
              <a:gd name="adj1" fmla="val 50000"/>
              <a:gd name="adj2" fmla="val 36461"/>
            </a:avLst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429264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ds of possible request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s F12 inferable from F6 and F14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inferable from F2 or F7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F13 could be inferred (which Fi could lead to F13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3C4-D5DF-4CA0-8B0B-41176734D7A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F008C-E9EB-4BA6-8A72-FCCA7338E73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(simple) K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habet (symbo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_&lt;_2k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_&lt;_300k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ling_by_trai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ling_by_pla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ing_a_ph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ing_to_the_ag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ing_the_ag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ying_a_tick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p_duration_&gt;_2_day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_a_civil_serva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      /*(negation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^           /*(and, conjunction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&gt;          /*(impli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570-2BE0-41A5-AAD5-869DB69213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CA245-83EC-43CC-89E2-689958418A2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ression Building Proces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(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^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&gt;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060-2EE5-4B48-BB25-47790C1B50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CAFA7-EA16-4678-96F0-2FE3C7E2758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1 : distance_&lt;_2km -&gt; wal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2 : ((not distance_&lt;_2km) ^ distance_&lt;_300km) -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ling_by_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3 : (not distance_&lt;_300km) -&gt; travelling_by_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4 : (buying_a_ticket ^ having_a_phone) -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ing_the_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5 : (buying_a_ticket ^ (not having_a_phone)) -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ing_to_the_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6 : travelling_by_plane -&gt; buying_a_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7 : (trip_duration.&gt;.2_days ^ being_a_civil_servant) -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 travelling_by_pla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 : (not distance_&lt;_300k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 : having_a_ph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AB7-3491-4399-A8A2-9D1BD3F7E1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C6580-22ED-4315-BB64-A1FDB081328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ference Engi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281800" cy="511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ile 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does’nt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 on R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 on  not tagged F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Ri fits the pattern "Fj -&gt; Fk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Fk to F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gg Fj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 on F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 Ri fits the pattern "Fj ^ Fl -&gt;..."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add Fm = (Fj ^ Fl) to the Fact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gg F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loop /* 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loop /*F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loop /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whi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165-CB6D-414A-B057-298E075CE6C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0F55D-BEE6-4620-A4AF-022FA8BCAAB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 – AI short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 – AI basics &gt; form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I – Knowledge Base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V – Knowledg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V - 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VI – Case-Based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VII – AI challenges and AI for rob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656-849C-4683-822A-D76B5D2B96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BF461-6A86-46BA-B8CC-96E24D86102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hings are call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axioms are called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part (of -&gt;) : premises (conjunction 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part (of -&gt;) : Consequents (conjunction 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axioms are called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ind of Rule which doesn't need premises to be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Rules and Facts are called “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ropos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the paradigm is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roposition logics” or “Order 0 logic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6D0-AB06-4841-ABBC-1A648C9170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2B240-822E-4F22-8DC8-EF19972B9F0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rom propositions to predicate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rom 0 to first order logic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42720" y="2224080"/>
            <a:ext cx="34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ntroduction of VARIABLES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istential Quant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iversal Quant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78360" y="2421000"/>
                <a:ext cx="378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859280" y="2997360"/>
                <a:ext cx="4176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47640" y="3933720"/>
                <a:ext cx="62136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dest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distan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ination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walkin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inatio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EF3-2976-4A98-9CD0-4023DE2ADDD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5B95A-2919-49E2-9625-109EE96587B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gramming languages for AI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LISP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erican: Mac Car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PRO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rance ! Colmerau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mallTalk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bject Langu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YAFO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Yet Another Frame based Object Oriente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KL-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Knowledge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Description log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AB9-8D2D-4585-892C-AC89E7C8F3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440A8-5555-42A1-B853-808494DD7BA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nowledge Based System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based K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s and facts + inference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 System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Hel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=&gt; Challenge: how the set of rules and facts can be acquired and maintained -&gt; Knowledg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89B-66F1-41E6-81EA-68B53CF39D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26A65-7EF5-412F-940C-D9734847DA3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V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Knowledg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94920" y="4868640"/>
            <a:ext cx="7777080" cy="1368360"/>
            <a:chOff x="394920" y="4868640"/>
            <a:chExt cx="7777080" cy="1368360"/>
          </a:xfrm>
        </p:grpSpPr>
        <p:sp>
          <p:nvSpPr>
            <p:cNvPr id="121" name=""/>
            <p:cNvSpPr/>
            <p:nvPr/>
          </p:nvSpPr>
          <p:spPr>
            <a:xfrm rot="10800000">
              <a:off x="394920" y="4868280"/>
              <a:ext cx="7777080" cy="1368360"/>
            </a:xfrm>
            <a:custGeom>
              <a:avLst/>
              <a:gdLst>
                <a:gd name="textAreaLeft" fmla="*/ 1338840 w 7777080"/>
                <a:gd name="textAreaRight" fmla="*/ 5749200 w 7777080"/>
                <a:gd name="textAreaTop" fmla="*/ 183240 h 1368360"/>
                <a:gd name="textAreaBottom" fmla="*/ 11851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437" hR="21600" stAng="10800000" swAng="5400000"/>
                  <a:lnTo>
                    <a:pt x="12249" y="0"/>
                  </a:lnTo>
                  <a:arcTo wR="7437" hR="21600" stAng="-5400000" swAng="2654447"/>
                  <a:lnTo>
                    <a:pt x="21175" y="14400"/>
                  </a:lnTo>
                  <a:lnTo>
                    <a:pt x="17280" y="21600"/>
                  </a:lnTo>
                  <a:lnTo>
                    <a:pt x="12535" y="14400"/>
                  </a:lnTo>
                  <a:lnTo>
                    <a:pt x="14449" y="14400"/>
                  </a:lnTo>
                  <a:arcTo wR="7437" hR="21600" stAng="-2745553" swAng="-2251610"/>
                  <a:lnTo>
                    <a:pt x="9843" y="1162"/>
                  </a:lnTo>
                  <a:arcTo wR="7437" hR="21600" stAng="-5802836" swAng="-4997164"/>
                  <a:close/>
                </a:path>
                <a:path fill="darkenLess" w="21600" h="21600">
                  <a:moveTo>
                    <a:pt x="0" y="21600"/>
                  </a:moveTo>
                  <a:arcTo wR="7437" hR="21600" stAng="10800000" swAng="5400000"/>
                  <a:lnTo>
                    <a:pt x="7437" y="0"/>
                  </a:lnTo>
                  <a:arcTo wR="7437" hR="21600" stAng="-5400000" swAng="402836"/>
                  <a:lnTo>
                    <a:pt x="9843" y="1162"/>
                  </a:lnTo>
                  <a:arcTo wR="7437" hR="21600" stAng="-5802836" swAng="-4997164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5640" y="546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ffff"/>
                </a:solidFill>
                <a:latin typeface="Arial"/>
              </a:rPr>
              <a:t>Knowledge Engineering: Why?</a:t>
            </a:r>
            <a:endParaRPr b="0" lang="en-US" sz="37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2144520" cy="217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1808280" cy="191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40000" y="1628640"/>
            <a:ext cx="5545080" cy="1584360"/>
          </a:xfrm>
          <a:custGeom>
            <a:avLst/>
            <a:gdLst>
              <a:gd name="textAreaLeft" fmla="*/ 970200 w 5545080"/>
              <a:gd name="textAreaRight" fmla="*/ 4020120 w 554508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600" y="5084640"/>
            <a:ext cx="250164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« world »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5013360"/>
            <a:ext cx="3097080" cy="91692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Base « representing »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33B-F121-43D4-9186-A840C14D73B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83FEF-2E6B-49ED-A966-8357A3AB931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800000">
            <a:off x="395280" y="4797360"/>
            <a:ext cx="4248000" cy="1440000"/>
          </a:xfrm>
          <a:custGeom>
            <a:avLst/>
            <a:gdLst>
              <a:gd name="textAreaLeft" fmla="*/ 731160 w 4248000"/>
              <a:gd name="textAreaRight" fmla="*/ 3140280 w 424800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7" hR="21600" stAng="10800000" swAng="5400000"/>
                <a:lnTo>
                  <a:pt x="12249" y="0"/>
                </a:lnTo>
                <a:arcTo wR="7437" hR="21600" stAng="-5400000" swAng="2654447"/>
                <a:lnTo>
                  <a:pt x="21175" y="14400"/>
                </a:lnTo>
                <a:lnTo>
                  <a:pt x="17280" y="21600"/>
                </a:lnTo>
                <a:lnTo>
                  <a:pt x="12535" y="14400"/>
                </a:lnTo>
                <a:lnTo>
                  <a:pt x="14449" y="14400"/>
                </a:lnTo>
                <a:arcTo wR="7437" hR="21600" stAng="-2745553" swAng="-2251610"/>
                <a:lnTo>
                  <a:pt x="9843" y="1162"/>
                </a:lnTo>
                <a:arcTo wR="7437" hR="21600" stAng="-5802836" swAng="-4997164"/>
                <a:close/>
              </a:path>
              <a:path fill="darkenLess" w="21600" h="21600">
                <a:moveTo>
                  <a:pt x="0" y="21600"/>
                </a:moveTo>
                <a:arcTo wR="7437" hR="21600" stAng="10800000" swAng="5400000"/>
                <a:lnTo>
                  <a:pt x="7437" y="0"/>
                </a:lnTo>
                <a:arcTo wR="7437" hR="21600" stAng="-5400000" swAng="402836"/>
                <a:lnTo>
                  <a:pt x="9843" y="1162"/>
                </a:lnTo>
                <a:arcTo wR="7437" hR="21600" stAng="-5802836" swAng="-4997164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ffff"/>
                </a:solidFill>
                <a:latin typeface="Arial"/>
              </a:rPr>
              <a:t>Alan Newell idea [1982]: modeling the world at a “KNOWLEDGE LEVEL”</a:t>
            </a:r>
            <a:endParaRPr b="0" lang="en-US" sz="33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1771920" cy="18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732720" y="3573360"/>
            <a:ext cx="1823760" cy="1121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1155960" cy="1223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6920" y="1341360"/>
            <a:ext cx="3816360" cy="1871640"/>
          </a:xfrm>
          <a:custGeom>
            <a:avLst/>
            <a:gdLst>
              <a:gd name="textAreaLeft" fmla="*/ 667800 w 3816360"/>
              <a:gd name="textAreaRight" fmla="*/ 2766960 w 3816360"/>
              <a:gd name="textAreaTop" fmla="*/ 250560 h 1871640"/>
              <a:gd name="textAreaBottom" fmla="*/ 162108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3284640"/>
            <a:ext cx="3095640" cy="15127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knowledge representation « understandable » by both humans and comput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Knowledge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484280"/>
            <a:ext cx="3961080" cy="1727280"/>
          </a:xfrm>
          <a:custGeom>
            <a:avLst/>
            <a:gdLst>
              <a:gd name="textAreaLeft" fmla="*/ 693000 w 3961080"/>
              <a:gd name="textAreaRight" fmla="*/ 2871720 w 3961080"/>
              <a:gd name="textAreaTop" fmla="*/ 231120 h 1727280"/>
              <a:gd name="textAreaBottom" fmla="*/ 14961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656320" y="1989000"/>
            <a:ext cx="1363680" cy="129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0800000">
            <a:off x="4211640" y="4797000"/>
            <a:ext cx="3960720" cy="1297080"/>
          </a:xfrm>
          <a:custGeom>
            <a:avLst/>
            <a:gdLst>
              <a:gd name="textAreaLeft" fmla="*/ 681840 w 3960720"/>
              <a:gd name="textAreaRight" fmla="*/ 2927880 w 3960720"/>
              <a:gd name="textAreaTop" fmla="*/ 173520 h 1297080"/>
              <a:gd name="textAreaBottom" fmla="*/ 112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7" hR="21600" stAng="10800000" swAng="5400000"/>
                <a:lnTo>
                  <a:pt x="12249" y="0"/>
                </a:lnTo>
                <a:arcTo wR="7437" hR="21600" stAng="-5400000" swAng="2654447"/>
                <a:lnTo>
                  <a:pt x="21175" y="14400"/>
                </a:lnTo>
                <a:lnTo>
                  <a:pt x="17280" y="21600"/>
                </a:lnTo>
                <a:lnTo>
                  <a:pt x="12535" y="14400"/>
                </a:lnTo>
                <a:lnTo>
                  <a:pt x="14449" y="14400"/>
                </a:lnTo>
                <a:arcTo wR="7437" hR="21600" stAng="-2745553" swAng="-2251610"/>
                <a:lnTo>
                  <a:pt x="9843" y="1162"/>
                </a:lnTo>
                <a:arcTo wR="7437" hR="21600" stAng="-5802836" swAng="-4997164"/>
                <a:close/>
              </a:path>
              <a:path fill="darkenLess" w="21600" h="21600">
                <a:moveTo>
                  <a:pt x="0" y="21600"/>
                </a:moveTo>
                <a:arcTo wR="7437" hR="21600" stAng="10800000" swAng="5400000"/>
                <a:lnTo>
                  <a:pt x="7437" y="0"/>
                </a:lnTo>
                <a:arcTo wR="7437" hR="21600" stAng="-5400000" swAng="402836"/>
                <a:lnTo>
                  <a:pt x="9843" y="1162"/>
                </a:lnTo>
                <a:arcTo wR="7437" hR="21600" stAng="-5802836" swAng="-4997164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1364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016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600" y="5084640"/>
            <a:ext cx="250164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« world »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5013360"/>
            <a:ext cx="3097080" cy="91692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Base « representing »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ymbolic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6FD-2DF6-41A7-9D86-D3E0EC86B27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0FDCF-E281-4376-A3F3-0305506224C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nowledge Level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abstraction for conceptualizing it (concepts and relationships + interaction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gical semantic will be described in order to allow computer calculations on the Doma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&gt; Domain The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represent efficiently concepts, relations and interactions for human interpretatio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le to specify a corresponding logical semantic for computers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5C2-F1F4-4134-A9F5-131F3284F7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A46E0-468E-41F6-A2B9-94639D9AA19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del Driven Knowledge Acquisi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6920" y="2349360"/>
            <a:ext cx="1590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ts /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69000" y="3484440"/>
            <a:ext cx="3183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 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45000" y="4653000"/>
            <a:ext cx="3310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 Instant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7560" y="5573880"/>
            <a:ext cx="13723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BS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276640"/>
            <a:ext cx="2447640" cy="576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structured Expert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508720" y="2924280"/>
            <a:ext cx="1225080" cy="1225440"/>
            <a:chOff x="5508720" y="2924280"/>
            <a:chExt cx="1225080" cy="1225440"/>
          </a:xfrm>
        </p:grpSpPr>
        <p:sp>
          <p:nvSpPr>
            <p:cNvPr id="153" name=""/>
            <p:cNvSpPr/>
            <p:nvPr/>
          </p:nvSpPr>
          <p:spPr>
            <a:xfrm>
              <a:off x="5508720" y="306864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378936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00720" y="292428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941800" y="3068640"/>
              <a:ext cx="35856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5800" y="3429000"/>
              <a:ext cx="3585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229080" y="328464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659640" y="4221000"/>
            <a:ext cx="1225080" cy="1225440"/>
            <a:chOff x="6659640" y="4221000"/>
            <a:chExt cx="1225080" cy="1225440"/>
          </a:xfrm>
        </p:grpSpPr>
        <p:sp>
          <p:nvSpPr>
            <p:cNvPr id="160" name=""/>
            <p:cNvSpPr/>
            <p:nvPr/>
          </p:nvSpPr>
          <p:spPr>
            <a:xfrm>
              <a:off x="6659640" y="436536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5640" y="508608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1640" y="422100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092720" y="4365360"/>
              <a:ext cx="35856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76720" y="4725720"/>
              <a:ext cx="3585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380000" y="458136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804000" y="4005360"/>
            <a:ext cx="1225080" cy="1225440"/>
            <a:chOff x="6804000" y="4005360"/>
            <a:chExt cx="1225080" cy="1225440"/>
          </a:xfrm>
        </p:grpSpPr>
        <p:sp>
          <p:nvSpPr>
            <p:cNvPr id="167" name=""/>
            <p:cNvSpPr/>
            <p:nvPr/>
          </p:nvSpPr>
          <p:spPr>
            <a:xfrm>
              <a:off x="6804000" y="414972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000" y="487044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6000" y="400536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237080" y="4149720"/>
              <a:ext cx="35856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1080" y="4510080"/>
              <a:ext cx="3585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524360" y="436572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451640" y="5661000"/>
            <a:ext cx="122400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2060640"/>
            <a:ext cx="3313080" cy="216000"/>
          </a:xfrm>
          <a:custGeom>
            <a:avLst/>
            <a:gdLst>
              <a:gd name="textAreaLeft" fmla="*/ 579600 w 3313080"/>
              <a:gd name="textAreaRight" fmla="*/ 2401920 w 33130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642200">
            <a:off x="4500720" y="2923920"/>
            <a:ext cx="1223640" cy="136836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642200">
            <a:off x="5292720" y="4005360"/>
            <a:ext cx="1224000" cy="1368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9642200">
            <a:off x="6084360" y="5084640"/>
            <a:ext cx="1224000" cy="1368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239400 h 1368720"/>
              <a:gd name="textAreaBottom" fmla="*/ 99252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00160" y="32320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22600" y="450864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30064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7080" y="416880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7800" y="544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0AD-650C-41D5-8112-80DC82FAEEA7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F3693-7E87-4A36-BF82-0E8377AD350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eptual Mod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ng Domain Knowledg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ipulated concepts + relationships / considering some tas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ng how a task has to be realized on the base of Domain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BDC-60AC-46FC-80AF-2B60904308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7619D-1DF7-43C7-BE3F-58DEDA98C2A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sho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Knowledge Analysis and Design System (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KADS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844640"/>
            <a:ext cx="2950920" cy="100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 solving behavi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1700280"/>
            <a:ext cx="2665440" cy="115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3429000"/>
            <a:ext cx="2664000" cy="8636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4653000"/>
            <a:ext cx="2665440" cy="115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4836240"/>
            <a:ext cx="2665440" cy="642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Base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2349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429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64000" y="5157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680" y="28591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pretation 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vocabulary, generic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843280" y="242064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22720" y="380844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 Techniques, Methods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995640" y="4076640"/>
            <a:ext cx="1440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328-5312-4EED-8BC2-5E4746F3AF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4C023-29F6-49EA-8922-02C29A7B0E7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ADS : Knowledge Engineer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8000" y="1309680"/>
            <a:ext cx="815004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CC0-EB20-4ECE-9730-FC3E8C3DD11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311CF-C0A9-4D88-9C75-F4D881254A4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V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Domain theory as an ont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Knowledge Based Systems remain difficult to build and maintain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r knowledge manageme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r knowledge sharin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nd, in the general scope of the Semantic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ntologies took a big place in AI research an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F22-3960-4920-8B86-06DF162D5A4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63167-00E8-4B5B-903E-50FDCD874FC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NTOLOGY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fic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ARTIF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signed for expressing the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intended mea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share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ocabulary + a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specific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its intended me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 An ontology is a specification of a conceptualization » [Gruber 9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&gt; an ontology accounts for the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commitm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 language to a certain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conceptualiz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32E-6710-4927-A540-C07F233AB49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E89F6-2D41-462A-92EA-2A1E4CA306D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Ontology </a:t>
            </a:r>
            <a:r>
              <a:rPr b="0" lang="fr-FR" sz="4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22000" y="1432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82000" y="215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20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1800" y="2781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440" y="2997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2720" y="3645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ul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60720" y="3645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3800" y="3645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tive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" y="4365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8160" y="4869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4520" y="5373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276720" y="1773360"/>
            <a:ext cx="1224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859280" y="1773360"/>
            <a:ext cx="2160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76360" y="2491920"/>
            <a:ext cx="1366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203280" y="2491920"/>
            <a:ext cx="1584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900000" y="306864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331640" y="306828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618920" y="3141720"/>
            <a:ext cx="129708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84000" y="3860640"/>
            <a:ext cx="215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971640" y="4005360"/>
            <a:ext cx="576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042920" y="3933360"/>
            <a:ext cx="115272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35280" y="3933360"/>
            <a:ext cx="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834920" y="393372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16360" y="3933360"/>
            <a:ext cx="287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203280" y="393372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03640" y="3357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076360" y="3357720"/>
            <a:ext cx="358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804000" y="2565000"/>
            <a:ext cx="36036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236000" y="2492280"/>
            <a:ext cx="28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558972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87440" y="5392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F84-9276-4AC6-BBBA-A28CF3EE1631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BEC69-38E8-4456-AD62-7712422A0E8A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fferent classes of ontolo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0360" cy="4322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420720" y="5734080"/>
            <a:ext cx="28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[from </a:t>
            </a:r>
            <a:r>
              <a:rPr b="0" lang="fr-FR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loa-cnr.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740-93E4-4BE2-A045-0ACC9A0B4608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B06D4-1C59-49A8-8DD3-CF349DB81E6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about ontologie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te with links for anything you need for going further and mastering ontologies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cs.utexas.edu/users/mfkb/related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ench web site about Knowledge Engine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www.irit.fr/GRACQ/index-bib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ice tutorial about ontologies (in fren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www.irit.fr/GRACQ/COURS/CoursFabienGandon.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ther tutorial about ontologies (in englis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http://www.loa-cnr.it/odcm.ht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AF8-1581-43B7-BC1A-851ECDE853D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2C42B-0A6F-49A5-8FE8-638CE28BAD4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V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alogical Reaso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=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se Based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Arial"/>
              </a:rPr>
              <a:t>Beyond « logical » systems, the analogical approach: Case Based-Reason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irs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rvin Minsky (a frame based model for memory)  [197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oger Schank (scripts for understanding natural language) [1982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Janet Kolodner (Case-Based Reasoning as a central research object)[199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E00-DBEB-47DE-87E1-E1CB3F4F169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8363A-CA9E-4E54-B602-B86504DED46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rtificial intelligenc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…born only few years after computers…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aaai.org/AITopics/html/history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ial birth date : 1956, Darmouth College (New Hampshire, U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McCarthy (logics suppor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vin Minsky (dynamic schemes suppor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« thinking machine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FB1-BCBA-472D-9D3E-4BE2A57BEB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B5A2B-BE7B-47F2-8144-F12D27327C7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ase-Based Reasoning Cyc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6944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631-8B3A-414E-82CC-85F0936B3C6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48F2B-9D1D-4115-900A-435A693C44F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: the reasoning kernel (1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0908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444-2B3C-4824-AF44-5A540DF16517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CEFE9-9111-4F2C-8F00-F8AE07C1D27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: the reasoning kernel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56144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A4B-6B32-4A63-A79A-1A02CE9E50B4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494EE-EE93-4D8F-A7A0-C11518F3277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: simple example (1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24000" y="1406520"/>
            <a:ext cx="8424720" cy="4578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050920" y="3068640"/>
            <a:ext cx="3529080" cy="360360"/>
          </a:xfrm>
          <a:prstGeom prst="rect">
            <a:avLst/>
          </a:prstGeom>
          <a:solidFill>
            <a:srgbClr val="ffe70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2E7-DA61-490A-A105-B6F7DC680A15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52837-75AC-4724-ACFA-0CA98ED53D6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 example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424720" cy="3571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95640" y="3789360"/>
            <a:ext cx="4105440" cy="1511280"/>
          </a:xfrm>
          <a:prstGeom prst="rect">
            <a:avLst/>
          </a:prstGeom>
          <a:solidFill>
            <a:srgbClr val="ffe701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4FD-0BEB-405B-9813-6BFC3B2AB29A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8456A-2146-4E43-94D8-5D9F954315A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 useful poin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enge Tool (http://www.empolis.com/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dara (http://www.kaidara.com/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Ban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colibri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 community website (no more maintain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ha web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386-E52C-4A5A-8F17-4DE849BC093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6BDCD-9D68-4DF8-A1C4-1B313D66126F}" type="datetime2">
              <a:rPr lang="en-US"/>
              <a:t>Wednesday, July 29, 20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V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new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and Rob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I Challen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and situated knowledge and reasoning (Robotics, help desk, semantic web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learning / Machin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ous agents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on as knowledge emer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Biologically inspir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Continuous learning man-machin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Situated Cognition, Distributed Cognition, Multi-agent paradigm, Dynamic neural networks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798-1147-4430-9277-55ED49D277F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12F38-AD59-46F1-979A-E9747656E03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Arial"/>
              </a:rPr>
              <a:t>AI and Robotics</a:t>
            </a:r>
            <a:br>
              <a:rPr sz="4000"/>
            </a:br>
            <a:r>
              <a:rPr b="0" lang="fr-FR" sz="2800" spc="-1" strike="noStrike">
                <a:solidFill>
                  <a:srgbClr val="ccffff"/>
                </a:solidFill>
                <a:latin typeface="Arial"/>
              </a:rPr>
              <a:t>http://www.faculty.ucr.edu/~currie/roboadam.htm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finition of a Robo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cording to The Robot Institute of America (1979) :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"A reprogrammable, multifunctional manipulator designed to move materials, parts, tools, or specialized devices through various programmed motions for the performance of a variety of tasks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cording to the Webster dictionary: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"An automatic device that performs functions normally ascribed to humans or a machine in the form of a human (Webster, 1993)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F2D-B69D-40F9-80A9-CDEC97AF2FF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5F657-DA30-4699-B2C6-06617BA6633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Robotic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892240" cy="2038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156120" cy="4376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235400" cy="387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6DC-D6FA-473A-A2C4-8AA47889FE34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82A5E-D6ED-4A3A-BE99-4DF5AEA57B8F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ione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36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Tur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Universal Turing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5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Von Neumann : comput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8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ien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cyberne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8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Shann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information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9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Mc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Culloch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 and Pit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neural network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hysiological appro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B31-5BC3-4F57-BF78-04BD38F9E4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8CD9E-9D22-4279-85D8-C5CFC080F84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and Robo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3486240" cy="546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176720" cy="2452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375912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117-7E23-409C-BFC0-56780CF62DB1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BA206-498E-4D9F-A9DD-6EC2AD283065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and Robo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2471760" cy="3240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4444920" cy="33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C17-04EC-4936-AE14-53203C0984F7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3ACE5-AB33-418D-897F-17643662E40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and Robo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54720" y="1792440"/>
            <a:ext cx="631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ny AIBO … http://www.eu.aibo.com/5_1_casestudies.as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nydog1.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acting to face to face interaction : kismet.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iorobobics -&gt; a cricke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284720" y="3357720"/>
            <a:ext cx="3566880" cy="26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C6D-D089-4925-A86C-E5B87030BD93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9766D-200A-436F-B8DB-F527AA38DB58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New ways of moving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2421000"/>
            <a:ext cx="5905440" cy="22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inking Machines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011-B6EA-430F-B8A5-909451AF3D30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6ECB8-2957-4CBC-B3D4-5F8E09ED031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The en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y 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3AA-072A-4302-BEA3-5A51A696765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35F8D-7540-4898-9189-80F7389385FE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rst AI progra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ell, Simon and Shaw write a program in logics for theorem proof [1956!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eneralize the process through what they call a GENERAL PROBLEM SOLVER (GPS). A GPS solves a problem by exploring possible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ways to go from an initial state to a state satisfying the goal to reach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set of operators allows to move from one state to one another.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A path going from the starting state to a state satisfying the goal is a s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 optimal solution is the shortest path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955-208A-444A-8B20-9BF9BE39C7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A1295-B554-4418-87CB-8345D15440D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rst challenge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playing chess -&gt; first win in 1997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Deep Blue wins Kaspar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Q Test (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vans 196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: finding “logical” mapping between series of pi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 Solving Approach (Waltz 197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language” processing (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Eliz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eizenbaum 1965) (SHRDLU, Winograd 197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CF6-B0A5-4ED7-931D-85A1AE4E07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E4C3C-297F-4F7F-9308-328762154F2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seventies, eighties, until now…] a dream…or a nightma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DENDR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hemical applic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MYC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edical application -&gt; TH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say II (Speech understand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Prospect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eolo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t Systems Gen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GU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C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7D3-64B5-4F84-8C66-C8AA850FE1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49D27-D328-434D-AC08-BC33217CEC6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orm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9:28:08Z</dcterms:created>
  <dc:creator>Alain Mille</dc:creator>
  <dc:description/>
  <dc:language>en-US</dc:language>
  <cp:lastModifiedBy>Alain Mille</cp:lastModifiedBy>
  <dcterms:modified xsi:type="dcterms:W3CDTF">2006-04-06T20:27:17Z</dcterms:modified>
  <cp:revision>20</cp:revision>
  <dc:subject/>
  <dc:title>Bases de l’intelligence artificielle</dc:title>
</cp:coreProperties>
</file>