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DAB-BB1F-49E2-8622-542ECF0E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BAF-7FA8-4A5D-AD84-BE50D274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2E1-EF7F-4519-8294-9E01983E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980-7D44-4482-9777-C2D965D4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AAF-326D-4FF5-99AF-077E7C8E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35C-8C09-48C7-9EF8-029BF41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2DA-B5DD-4A20-8A01-5B30BA2D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308-BE12-4F9E-BBC7-87EBBDF5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BBC-3796-48C6-879D-22A37B7C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133-5D2F-4550-8BBF-95B4DD5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95D-DC99-4C42-BFB6-CC55ABF6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10E-3F6F-4810-8D5E-493A5E6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600-A99B-4114-91DE-099CD56C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19640" y="76500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155736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1413000"/>
            <a:ext cx="115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2781360"/>
            <a:ext cx="115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40720" y="2276640"/>
            <a:ext cx="1152360" cy="50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08720" y="321300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2421000"/>
            <a:ext cx="115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565360"/>
            <a:ext cx="115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ro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148428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49228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uge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393372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479736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149720"/>
            <a:ext cx="115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292640"/>
            <a:ext cx="1152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6 cou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4581360"/>
            <a:ext cx="115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7 famil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3933720"/>
            <a:ext cx="115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2" idx="0"/>
            <a:endCxn id="41" idx="4"/>
          </p:cNvCxnSpPr>
          <p:nvPr/>
        </p:nvCxnSpPr>
        <p:spPr>
          <a:xfrm flipV="1">
            <a:off x="4932360" y="1268280"/>
            <a:ext cx="864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3" idx="0"/>
            <a:endCxn id="41" idx="4"/>
          </p:cNvCxnSpPr>
          <p:nvPr/>
        </p:nvCxnSpPr>
        <p:spPr>
          <a:xfrm flipH="1" flipV="1">
            <a:off x="5796000" y="1268280"/>
            <a:ext cx="936720" cy="14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6" idx="0"/>
            <a:endCxn id="43" idx="4"/>
          </p:cNvCxnSpPr>
          <p:nvPr/>
        </p:nvCxnSpPr>
        <p:spPr>
          <a:xfrm flipH="1" flipV="1">
            <a:off x="6732360" y="1916280"/>
            <a:ext cx="1153080" cy="12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5" idx="0"/>
            <a:endCxn id="43" idx="4"/>
          </p:cNvCxnSpPr>
          <p:nvPr/>
        </p:nvCxnSpPr>
        <p:spPr>
          <a:xfrm flipH="1" flipV="1">
            <a:off x="6732360" y="1916280"/>
            <a:ext cx="158472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4" idx="0"/>
            <a:endCxn id="43" idx="4"/>
          </p:cNvCxnSpPr>
          <p:nvPr/>
        </p:nvCxnSpPr>
        <p:spPr>
          <a:xfrm flipV="1">
            <a:off x="6588000" y="1916280"/>
            <a:ext cx="14472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9" idx="6"/>
            <a:endCxn id="42" idx="2"/>
          </p:cNvCxnSpPr>
          <p:nvPr/>
        </p:nvCxnSpPr>
        <p:spPr>
          <a:xfrm>
            <a:off x="3276720" y="1735920"/>
            <a:ext cx="107964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7"/>
            <a:endCxn id="42" idx="3"/>
          </p:cNvCxnSpPr>
          <p:nvPr/>
        </p:nvCxnSpPr>
        <p:spPr>
          <a:xfrm flipV="1">
            <a:off x="2963520" y="1987200"/>
            <a:ext cx="1561680" cy="50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7"/>
            <a:endCxn id="42" idx="4"/>
          </p:cNvCxnSpPr>
          <p:nvPr/>
        </p:nvCxnSpPr>
        <p:spPr>
          <a:xfrm flipV="1">
            <a:off x="4331880" y="2060640"/>
            <a:ext cx="6008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8" idx="0"/>
            <a:endCxn id="42" idx="4"/>
          </p:cNvCxnSpPr>
          <p:nvPr/>
        </p:nvCxnSpPr>
        <p:spPr>
          <a:xfrm flipH="1" flipV="1">
            <a:off x="4932360" y="2060640"/>
            <a:ext cx="216000" cy="50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1" idx="0"/>
            <a:endCxn id="47" idx="4"/>
          </p:cNvCxnSpPr>
          <p:nvPr/>
        </p:nvCxnSpPr>
        <p:spPr>
          <a:xfrm flipH="1" flipV="1">
            <a:off x="2555640" y="2924280"/>
            <a:ext cx="505440" cy="100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2" idx="0"/>
            <a:endCxn id="47" idx="4"/>
          </p:cNvCxnSpPr>
          <p:nvPr/>
        </p:nvCxnSpPr>
        <p:spPr>
          <a:xfrm flipH="1" flipV="1">
            <a:off x="2555640" y="2924280"/>
            <a:ext cx="1513440" cy="18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endCxn id="47" idx="5"/>
          </p:cNvCxnSpPr>
          <p:nvPr/>
        </p:nvCxnSpPr>
        <p:spPr>
          <a:xfrm flipH="1" flipV="1">
            <a:off x="2963520" y="2850840"/>
            <a:ext cx="1321200" cy="12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1" idx="0"/>
            <a:endCxn id="44" idx="4"/>
          </p:cNvCxnSpPr>
          <p:nvPr/>
        </p:nvCxnSpPr>
        <p:spPr>
          <a:xfrm flipV="1">
            <a:off x="3060720" y="3284640"/>
            <a:ext cx="3527640" cy="64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0"/>
            <a:endCxn id="44" idx="4"/>
          </p:cNvCxnSpPr>
          <p:nvPr/>
        </p:nvCxnSpPr>
        <p:spPr>
          <a:xfrm flipV="1">
            <a:off x="4427280" y="3284640"/>
            <a:ext cx="216108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2" idx="7"/>
            <a:endCxn id="45" idx="3"/>
          </p:cNvCxnSpPr>
          <p:nvPr/>
        </p:nvCxnSpPr>
        <p:spPr>
          <a:xfrm flipV="1">
            <a:off x="4476240" y="2706120"/>
            <a:ext cx="3433320" cy="216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4" idx="0"/>
            <a:endCxn id="50" idx="4"/>
          </p:cNvCxnSpPr>
          <p:nvPr/>
        </p:nvCxnSpPr>
        <p:spPr>
          <a:xfrm flipH="1" flipV="1">
            <a:off x="3924360" y="2995560"/>
            <a:ext cx="1872000" cy="12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4" idx="0"/>
            <a:endCxn id="46" idx="4"/>
          </p:cNvCxnSpPr>
          <p:nvPr/>
        </p:nvCxnSpPr>
        <p:spPr>
          <a:xfrm flipV="1">
            <a:off x="5796000" y="3716280"/>
            <a:ext cx="2089440" cy="57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5" idx="0"/>
            <a:endCxn id="50" idx="5"/>
          </p:cNvCxnSpPr>
          <p:nvPr/>
        </p:nvCxnSpPr>
        <p:spPr>
          <a:xfrm flipH="1" flipV="1">
            <a:off x="4331880" y="2922120"/>
            <a:ext cx="2761200" cy="16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5" idx="0"/>
            <a:endCxn id="45" idx="3"/>
          </p:cNvCxnSpPr>
          <p:nvPr/>
        </p:nvCxnSpPr>
        <p:spPr>
          <a:xfrm flipV="1">
            <a:off x="7092720" y="2706120"/>
            <a:ext cx="816840" cy="18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56" idx="1"/>
            <a:endCxn id="44" idx="4"/>
          </p:cNvCxnSpPr>
          <p:nvPr/>
        </p:nvCxnSpPr>
        <p:spPr>
          <a:xfrm flipH="1" flipV="1">
            <a:off x="6588000" y="3284640"/>
            <a:ext cx="816840" cy="72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56" idx="1"/>
            <a:endCxn id="48" idx="4"/>
          </p:cNvCxnSpPr>
          <p:nvPr/>
        </p:nvCxnSpPr>
        <p:spPr>
          <a:xfrm flipH="1" flipV="1">
            <a:off x="5148000" y="3068640"/>
            <a:ext cx="2256840" cy="9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" name=""/>
          <p:cNvGrpSpPr/>
          <p:nvPr/>
        </p:nvGrpSpPr>
        <p:grpSpPr>
          <a:xfrm>
            <a:off x="1979640" y="5516640"/>
            <a:ext cx="1767960" cy="358560"/>
            <a:chOff x="1979640" y="5516640"/>
            <a:chExt cx="1767960" cy="358560"/>
          </a:xfrm>
        </p:grpSpPr>
        <p:cxnSp>
          <p:nvCxnSpPr>
            <p:cNvPr id="79" name=""/>
            <p:cNvCxnSpPr/>
            <p:nvPr/>
          </p:nvCxnSpPr>
          <p:spPr>
            <a:xfrm>
              <a:off x="2587320" y="5722200"/>
              <a:ext cx="557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1979640" y="5516640"/>
              <a:ext cx="60768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9920" y="5516640"/>
              <a:ext cx="607680" cy="35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927600" y="551664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est_une_sorte_d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5300640"/>
            <a:ext cx="511344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4:34:57Z</dcterms:created>
  <dc:creator>Alain Mille</dc:creator>
  <dc:description/>
  <dc:language>en-US</dc:language>
  <cp:lastModifiedBy>Alain Mille</cp:lastModifiedBy>
  <dcterms:modified xsi:type="dcterms:W3CDTF">2003-01-23T15:26:06Z</dcterms:modified>
  <cp:revision>3</cp:revision>
  <dc:subject/>
  <dc:title>Diapositive 1</dc:title>
</cp:coreProperties>
</file>