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53213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06520"/>
            <a:ext cx="7770960" cy="62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D60-BA6F-4DE8-BBF1-DA95229E3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ymbol" charset="2"/>
              <a:buChar char="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  <p:pic>
        <p:nvPicPr>
          <p:cNvPr id="5" name="logo_sophia" descr=""/>
          <p:cNvPicPr/>
          <p:nvPr/>
        </p:nvPicPr>
        <p:blipFill>
          <a:blip r:embed="rId3"/>
          <a:stretch/>
        </p:blipFill>
        <p:spPr>
          <a:xfrm>
            <a:off x="0" y="0"/>
            <a:ext cx="13525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39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er Cor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dentifier/modéliser les concepts et les termes pertinent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dentifier les relations pertinentes : subClassOf, isa, partOf, hasPart, closeTo, over, under, contain, connected, etc.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Règles pour combiner les concepts et les relations : partOf est transitiv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éli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ne ontologie est une </a:t>
            </a:r>
            <a:r>
              <a:rPr b="0" i="1" lang="en-GB" sz="3200" spc="-1" strike="noStrike">
                <a:solidFill>
                  <a:srgbClr val="000000"/>
                </a:solidFill>
                <a:latin typeface="AvantGarde"/>
              </a:rPr>
              <a:t>modélisation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des connaissances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Au sens o</a:t>
            </a:r>
            <a:r>
              <a:rPr b="0" lang="fr-FR" sz="3200" spc="-1" strike="noStrike">
                <a:solidFill>
                  <a:srgbClr val="000000"/>
                </a:solidFill>
                <a:latin typeface="MS Shell Dlg"/>
              </a:rPr>
              <a:t>ù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une théorie physique est un modèle de la réalité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l peut y avoir plusieurs modèles d’une m</a:t>
            </a:r>
            <a:r>
              <a:rPr b="0" lang="fr-FR" sz="3200" spc="-1" strike="noStrike">
                <a:solidFill>
                  <a:srgbClr val="000000"/>
                </a:solidFill>
                <a:latin typeface="MS Shell Dlg"/>
              </a:rPr>
              <a:t>ême r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éalité :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68904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expérience de la chute des cor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théorie de la gravitation de New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63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relativité générale d’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Con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Continuum : donnée, information, connaissanc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704160" indent="-269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donnée : </a:t>
            </a:r>
            <a:r>
              <a:rPr b="1" lang="en-GB" sz="2800" spc="-1" strike="noStrike">
                <a:solidFill>
                  <a:srgbClr val="00cc99"/>
                </a:solidFill>
                <a:latin typeface="Courier New"/>
              </a:rPr>
              <a:t>… ---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information : </a:t>
            </a:r>
            <a:r>
              <a:rPr b="1" lang="en-GB" sz="2800" spc="-1" strike="noStrike">
                <a:solidFill>
                  <a:srgbClr val="ff0000"/>
                </a:solidFill>
                <a:latin typeface="Courier New"/>
              </a:rPr>
              <a:t>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69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connaissance : 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en cas d’alerte,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déclencher les sec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La connaissance permet de produire de nouvelles données, informations, connaissances : inférenc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Types de connaiss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0240" indent="-3002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Connaissances de résolution de probl</a:t>
            </a:r>
            <a:r>
              <a:rPr b="0" lang="fr-FR" sz="3200" spc="-1" strike="noStrike">
                <a:solidFill>
                  <a:srgbClr val="000000"/>
                </a:solidFill>
                <a:latin typeface="MS Shell Dlg"/>
              </a:rPr>
              <a:t>è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me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651960" indent="-24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conception, diagnostic, évaluation, pla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-24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âches, inf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é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0240" indent="-3002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vantGarde"/>
              </a:rPr>
              <a:t>Connaissances du domain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651960" indent="-24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vantGarde"/>
              </a:rPr>
              <a:t>e.g. 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électronique, mécanique, médecin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vantGarde"/>
              </a:rPr>
              <a:t>ontologie</a:t>
            </a:r>
            <a:r>
              <a:rPr b="0" lang="en-GB" sz="2400" spc="-1" strike="noStrike">
                <a:solidFill>
                  <a:srgbClr val="000000"/>
                </a:solidFill>
                <a:latin typeface="AvantGarde"/>
              </a:rPr>
              <a:t> : </a:t>
            </a:r>
            <a:r>
              <a:rPr b="0" i="1" lang="en-GB" sz="2400" spc="-1" strike="noStrike">
                <a:solidFill>
                  <a:srgbClr val="000000"/>
                </a:solidFill>
                <a:latin typeface="AvantGarde"/>
              </a:rPr>
              <a:t>réutili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vantGarde"/>
              </a:rPr>
              <a:t>mod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è</a:t>
            </a:r>
            <a:r>
              <a:rPr b="0" lang="en-GB" sz="2400" spc="-1" strike="noStrike">
                <a:solidFill>
                  <a:srgbClr val="3333cc"/>
                </a:solidFill>
                <a:latin typeface="AvantGarde"/>
              </a:rPr>
              <a:t>les de domaine</a:t>
            </a:r>
            <a:r>
              <a:rPr b="0" lang="en-GB" sz="2400" spc="-1" strike="noStrike">
                <a:solidFill>
                  <a:srgbClr val="000000"/>
                </a:solidFill>
                <a:latin typeface="AvantGarde"/>
              </a:rPr>
              <a:t> : fonctionnel, causal, structurel, exprimés dans le vocabulaire de l’ontolo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concept Objec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concept Engine &lt; Objec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concept Vehicle &lt; Objec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relation partOf :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Object -&gt; Objec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Mod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èles de doma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Structurel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urier New"/>
              </a:rPr>
              <a:t>Engine e1 partOf Vehicle v2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ausal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Bookman Old Style"/>
              </a:rPr>
              <a:t>Engine breakdown =&gt; Vehicle stop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vantGarde"/>
              </a:rPr>
              <a:t>Mod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èles de tâ</a:t>
            </a:r>
            <a:r>
              <a:rPr b="0" lang="fr-FR" sz="4400" spc="-1" strike="noStrike">
                <a:solidFill>
                  <a:srgbClr val="000000"/>
                </a:solidFill>
                <a:latin typeface="MS Shell Dlg"/>
              </a:rPr>
              <a:t>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onception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sp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ecify, design, 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ass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Diagnostic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tarBats" charset="2"/>
              <a:buChar char="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identifier des symp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ômes, choisir un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 mod</a:t>
            </a:r>
            <a:r>
              <a:rPr b="0" lang="fr-FR" sz="2800" spc="-1" strike="noStrike">
                <a:solidFill>
                  <a:srgbClr val="000000"/>
                </a:solidFill>
                <a:latin typeface="Bookman Old Style"/>
              </a:rPr>
              <a:t>è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ausal, 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émettre des hypoth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èses, imaginer des cons</a:t>
            </a:r>
            <a:r>
              <a:rPr b="0" lang="en-GB" sz="2800" spc="-1" strike="noStrike">
                <a:solidFill>
                  <a:srgbClr val="000000"/>
                </a:solidFill>
                <a:latin typeface="AvantGarde"/>
              </a:rPr>
              <a:t>équences, les tester, etc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StarBats"/>
                <a:ea typeface="StarBats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accent est mis sur les </a:t>
            </a:r>
            <a:r>
              <a:rPr b="0" i="1" lang="en-GB" sz="3200" spc="-1" strike="noStrike">
                <a:solidFill>
                  <a:srgbClr val="000000"/>
                </a:solidFill>
                <a:latin typeface="MS Shell Dlg"/>
              </a:rPr>
              <a:t>concepts 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et les </a:t>
            </a:r>
            <a:r>
              <a:rPr b="0" i="1" lang="en-GB" sz="3200" spc="-1" strike="noStrike">
                <a:solidFill>
                  <a:srgbClr val="000000"/>
                </a:solidFill>
                <a:latin typeface="MS Shell Dlg"/>
              </a:rPr>
              <a:t>relations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 du domaine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rienté modélisation, spécification, réutilisation, partage, standardisation.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Relations spécifiques du domaine considéré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L'accent est mis sur le coté </a:t>
            </a:r>
            <a:r>
              <a:rPr b="0" i="1" lang="en-GB" sz="3200" spc="-1" strike="noStrike">
                <a:solidFill>
                  <a:srgbClr val="000000"/>
                </a:solidFill>
                <a:latin typeface="MS Shell Dlg"/>
              </a:rPr>
              <a:t>opérationnel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pérations rendues possibles par le modèle objet : classification, évolution, simulation, calcul.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rienté résolution de problèm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ie/Thesauru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L'accent est mis sur les </a:t>
            </a:r>
            <a:r>
              <a:rPr b="0" i="1" lang="en-GB" sz="3200" spc="-1" strike="noStrike">
                <a:solidFill>
                  <a:srgbClr val="000000"/>
                </a:solidFill>
                <a:latin typeface="MS Shell Dlg"/>
              </a:rPr>
              <a:t>termes 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 utilisés pour dénoter les concepts du domaine (linguistique, langue naturelle).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Les relations entre termes sont </a:t>
            </a:r>
            <a:r>
              <a:rPr b="0" i="1" lang="en-GB" sz="3200" spc="-1" strike="noStrike">
                <a:solidFill>
                  <a:srgbClr val="000000"/>
                </a:solidFill>
                <a:latin typeface="MS Shell Dlg"/>
              </a:rPr>
              <a:t>linguistiques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rienté indexation.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170880"/>
            <a:ext cx="7770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ude de ce qui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e emprunté à la philoso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ur nous 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lisation d’une conceptu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auru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Recueil documentaire alphabétique de termes servant de descripteur pour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analyser un corpu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indexer des document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Relations prédéfinies standardisées pour les thésaurus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lingu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BT : Broader Ter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NT : Narrower Ter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TT : Top Ter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Shell Dlg"/>
              </a:rPr>
              <a:t>RT : Related Term (other than BT, NT, TT, etc.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USE : Prefered Ter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UF : Use for, non preferred synonym, quasi synony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SN : Scope Note, Une note pour expliquer un term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9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vantGarde"/>
              </a:rPr>
              <a:t>Composant réutilisabl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vantGarde"/>
              </a:rPr>
              <a:t>Réutilisation 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 généralité, abstraction (reuse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vantGarde"/>
              </a:rPr>
              <a:t>Partage 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: consensus, standardisation (sharing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Accord sur conceptualisation partagée : engagement ontologique (commitment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ér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Formalisation : lever les ambiguïté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ndépendance (relative) par rapport à une tâche, ou un problème précis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tilisable pour différentes tâches : conception,</a:t>
            </a: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diagnostic, maintenance, recherche d'information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éristiqu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ndépendante d’une implémentation : limiter le biais dû à un formalisme de représentation : niveau conceptue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Des inférences sont possibles (relations transitives, axiomes, etc.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d</a:t>
            </a:r>
            <a:r>
              <a:rPr b="0" lang="en-GB" sz="4400" spc="-1" strike="noStrike">
                <a:solidFill>
                  <a:srgbClr val="000000"/>
                </a:solidFill>
                <a:latin typeface="StarBats"/>
                <a:ea typeface="StarBats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71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ogies générales, abstraites, de haut niveau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-31716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ogie des catégories conceptuelles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-31716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bjet, événement, état, processus, action, temps, espac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ogies théoriques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7160" indent="-31716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physique, mathématique,  cinématique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ogie applicative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Médecine, automobile, patrimoine culturel, organisation, etc.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es de con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Clarté : communiquer le sens des termes définis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Cohérence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Extensibilité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Indépendance vs implémentation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Modularité 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ils/Lan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KIF : Knowledge Interchange Forma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ingua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Logiques de description (orientée classification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Graphe conceptuel (support)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RDF Schema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DAML OI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33520"/>
            <a:ext cx="77709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mettre d'accord sur 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es termes employés dans une organisation, une communauté, un mé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re en sorte que les personnes et les logiciels s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ren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tile pour des applications distribuées telles que l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ntolingua : www-ksl.stanford.edu/sns.html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WordNet : Ontologie de la langue naturell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Enterprise Ontology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Kactus : ingénierie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UMLS : Unified Medical Language System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Cyc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EngMath, PhysSy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293400" indent="-293400"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S Shell Dlg"/>
              </a:rPr>
              <a:t>O’Comma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096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mbigu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ï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088720"/>
            <a:ext cx="777096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’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d'hôt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d'éch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des député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d'enregistre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noi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mbre funérai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3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dentifier, mod</a:t>
            </a:r>
            <a:r>
              <a:rPr b="0" lang="en-GB" sz="3600" spc="-1" strike="noStrike">
                <a:solidFill>
                  <a:srgbClr val="000000"/>
                </a:solidFill>
                <a:latin typeface="MS Shell Dlg"/>
              </a:rPr>
              <a:t>éliser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les  </a:t>
            </a:r>
            <a:r>
              <a:rPr b="0" i="1" lang="en-GB" sz="3200" spc="-1" strike="noStrike">
                <a:solidFill>
                  <a:srgbClr val="000000"/>
                </a:solidFill>
                <a:latin typeface="AvantGarde"/>
              </a:rPr>
              <a:t>concepts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d'un domaine, pertinents pour une/des application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Se mettre d'accord, au sein d'une communauté,  sur les </a:t>
            </a:r>
            <a:r>
              <a:rPr b="0" i="1" lang="en-GB" sz="3200" spc="-1" strike="noStrike">
                <a:solidFill>
                  <a:srgbClr val="000000"/>
                </a:solidFill>
                <a:latin typeface="AvantGarde"/>
              </a:rPr>
              <a:t>termes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employés pour se référer à ces concept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3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Mot de la langue naturelle qui désigne un (des) concept(s)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3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vantGarde"/>
              </a:rPr>
              <a:t>cat, chat, greffier, matou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13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termes qui d</a:t>
            </a:r>
            <a:r>
              <a:rPr b="0" lang="en-GB" sz="3600" spc="-1" strike="noStrike">
                <a:solidFill>
                  <a:srgbClr val="000000"/>
                </a:solidFill>
                <a:latin typeface="MS Shell Dlg"/>
              </a:rPr>
              <a:t>ésignent le concept de </a:t>
            </a:r>
            <a:r>
              <a:rPr b="0" i="1" lang="en-GB" sz="3600" spc="-1" strike="noStrike">
                <a:solidFill>
                  <a:srgbClr val="3333cc"/>
                </a:solidFill>
                <a:latin typeface="MS Shell Dlg"/>
              </a:rPr>
              <a:t>chat</a:t>
            </a:r>
            <a:endParaRPr b="0" lang="en-US" sz="3600" spc="-1" strike="noStrike">
              <a:solidFill>
                <a:srgbClr val="000000"/>
              </a:solidFill>
              <a:latin typeface="MS Shell Dlg"/>
            </a:endParaRPr>
          </a:p>
          <a:p>
            <a:pPr lvl="2" marL="1051560" indent="-210240">
              <a:spcBef>
                <a:spcPts val="561"/>
              </a:spcBef>
              <a:buClr>
                <a:srgbClr val="000000"/>
              </a:buClr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onymi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ieurs termes dénotent le 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ê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 conce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561"/>
              </a:spcBef>
              <a:buClr>
                <a:srgbClr val="000000"/>
              </a:buClr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mbigu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ï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 : plusieurs concepts dénotés par le 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ê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 te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dentifier/mod</a:t>
            </a:r>
            <a:r>
              <a:rPr b="0" lang="en-GB" sz="3600" spc="-1" strike="noStrike">
                <a:solidFill>
                  <a:srgbClr val="000000"/>
                </a:solidFill>
                <a:latin typeface="MS Shell Dlg"/>
              </a:rPr>
              <a:t>éliser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les  concepts et les </a:t>
            </a:r>
            <a:r>
              <a:rPr b="0" i="1" lang="en-GB" sz="3200" spc="-1" strike="noStrike">
                <a:solidFill>
                  <a:srgbClr val="000000"/>
                </a:solidFill>
                <a:latin typeface="AvantGarde"/>
              </a:rPr>
              <a:t>relations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 conceptuelle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formaliser la conceptualisation, et le vocabulaire correspondant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Formalisation pour lever toute ambiguïté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quoi fair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ne base de connaissances à objets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n système d</a:t>
            </a:r>
            <a:r>
              <a:rPr b="0" lang="en-GB" sz="3200" spc="-1" strike="noStrike">
                <a:solidFill>
                  <a:srgbClr val="000000"/>
                </a:solidFill>
                <a:latin typeface="StarBats"/>
                <a:ea typeface="StarBats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annotation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n système d</a:t>
            </a:r>
            <a:r>
              <a:rPr b="0" lang="en-GB" sz="3200" spc="-1" strike="noStrike">
                <a:solidFill>
                  <a:srgbClr val="000000"/>
                </a:solidFill>
                <a:latin typeface="StarBats"/>
                <a:ea typeface="StarBats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indexation documentaire, de recherche d’information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Commerce </a:t>
            </a:r>
            <a:r>
              <a:rPr b="0" lang="en-GB" sz="3600" spc="-1" strike="noStrike">
                <a:solidFill>
                  <a:srgbClr val="000000"/>
                </a:solidFill>
                <a:latin typeface="MS Shell Dlg"/>
              </a:rPr>
              <a:t>électronique</a:t>
            </a:r>
            <a:endParaRPr b="0" lang="en-US" sz="36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Différentes acceptions du mot ontologie :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Vocabulaire technique,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Référentiel métier,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Terminologie/thesaurus, 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Syst</a:t>
            </a:r>
            <a:r>
              <a:rPr b="0" lang="fr-FR" sz="3200" spc="-1" strike="noStrike">
                <a:solidFill>
                  <a:srgbClr val="000000"/>
                </a:solidFill>
                <a:latin typeface="MS Shell Dlg"/>
              </a:rPr>
              <a:t>è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me de classes d</a:t>
            </a:r>
            <a:r>
              <a:rPr b="0" lang="en-GB" sz="3200" spc="-1" strike="noStrike">
                <a:solidFill>
                  <a:srgbClr val="000000"/>
                </a:solidFill>
                <a:latin typeface="StarBats"/>
                <a:ea typeface="StarBats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une représentation par objet : UML ?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tarBats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vantGarde"/>
              </a:rPr>
              <a:t>Base de connaissances terminologique</a:t>
            </a:r>
            <a:endParaRPr b="0" lang="en-US" sz="3200" spc="-1" strike="noStrike">
              <a:solidFill>
                <a:srgbClr val="000000"/>
              </a:solidFill>
              <a:latin typeface="MS Shell Dl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3:34:05Z</dcterms:created>
  <dc:creator>corby</dc:creator>
  <dc:description/>
  <dc:language>en-US</dc:language>
  <cp:lastModifiedBy>Administrateur</cp:lastModifiedBy>
  <cp:lastPrinted>2000-01-03T14:16:34Z</cp:lastPrinted>
  <dcterms:modified xsi:type="dcterms:W3CDTF">2002-08-28T14:48:21Z</dcterms:modified>
  <cp:revision>90</cp:revision>
  <dc:subject/>
  <dc:title>Ontologie</dc:title>
</cp:coreProperties>
</file>