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5.xml.rels" ContentType="application/vnd.openxmlformats-package.relationships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971D20D-2FCD-445B-880A-7848320CC1E9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6C7541-415C-474A-97F5-1D41671F768A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DCEC-7B1C-4B03-AF50-5AEAC271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37E-98EB-4C1C-B61E-5CB43BB6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BAA-070A-4110-B139-E9F79EB49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F5B-3A4F-4DAD-AA50-0810DB80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C97-79B7-42D5-9CC2-A5920351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DB5-A244-47D3-AFBF-2FC0013F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33D0-E87E-4944-BABD-4863E86A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56B-663A-499F-8B23-196706E6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BBE-C02F-45A4-A04C-DA3FE4AA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BB1-12CF-400C-A86D-77F02046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B59-F662-4656-9DF3-41D9D777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A9A-678F-465B-AAB3-A790D700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C3FA-3EB6-4797-9EA0-BDCA7AF82539}" type="datetime2">
              <a:rPr b="0" lang="en-GB" sz="1400" spc="-1" strike="noStrike">
                <a:solidFill>
                  <a:srgbClr val="ffffff"/>
                </a:solidFill>
                <a:latin typeface="Arial"/>
              </a:rPr>
              <a:t>Tuesday 28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FA53-6FDF-4609-B2C0-19CBCCABD1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ars.cs.unp.ac.za/lisp/" TargetMode="External"/><Relationship Id="rId2" Type="http://schemas.openxmlformats.org/officeDocument/2006/relationships/hyperlink" Target="http://www.csupomona.edu/~jrfisher/www/prolog_tutorial/intro.html" TargetMode="External"/><Relationship Id="rId3" Type="http://schemas.openxmlformats.org/officeDocument/2006/relationships/hyperlink" Target="http://www.smalltalk.org/articles/article_20040000_11.html" TargetMode="External"/><Relationship Id="rId4" Type="http://schemas.openxmlformats.org/officeDocument/2006/relationships/hyperlink" Target="http://www.smalltalk.org/articles/article_20040000_11.html" TargetMode="External"/><Relationship Id="rId5" Type="http://schemas.openxmlformats.org/officeDocument/2006/relationships/hyperlink" Target="ftp://ftp.inria.fr/INRIA/publication/publi-pdf/RT/RT-0072.pdf" TargetMode="External"/><Relationship Id="rId6" Type="http://schemas.openxmlformats.org/officeDocument/2006/relationships/hyperlink" Target="http://hopl.murdoch.edu.au/showlanguage.prx?exp=1156&amp;language=KL-ONE" TargetMode="External"/><Relationship Id="rId7" Type="http://schemas.openxmlformats.org/officeDocument/2006/relationships/hyperlink" Target="http://www.inf.unibz.it/~franconi/dl/course/" TargetMode="External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ommonkads.uva.nl/" TargetMode="External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s.umd.edu/projects/plus/SHOE/cs.html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loa-cnr.it/" TargetMode="Externa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cs.utexas.edu/users/mfkb/related.html" TargetMode="External"/><Relationship Id="rId2" Type="http://schemas.openxmlformats.org/officeDocument/2006/relationships/hyperlink" Target="http://www.cs.utexas.edu/users/mfkb/related.html" TargetMode="External"/><Relationship Id="rId3" Type="http://schemas.openxmlformats.org/officeDocument/2006/relationships/hyperlink" Target="http://www.irit.fr/GRACQ/index-bib.html" TargetMode="External"/><Relationship Id="rId4" Type="http://schemas.openxmlformats.org/officeDocument/2006/relationships/hyperlink" Target="http://www.irit.fr/GRACQ/COURS/CoursFabienGandon.htm" TargetMode="External"/><Relationship Id="rId5" Type="http://schemas.openxmlformats.org/officeDocument/2006/relationships/hyperlink" Target="http://www.irit.fr/GRACQ/COURS/CoursFabienGandon.htm" TargetMode="External"/><Relationship Id="rId6" Type="http://schemas.openxmlformats.org/officeDocument/2006/relationships/hyperlink" Target="http://www.loa-cnr.it/odcm.html" TargetMode="External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aaai.org/AITopics/html/history.html" TargetMode="External"/><Relationship Id="rId2" Type="http://schemas.openxmlformats.org/officeDocument/2006/relationships/hyperlink" Target="https://www.aaai.org/AITopics/html/history.html" TargetMode="Externa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history.mcs.st-andrews.ac.uk/Mathematicians/Turing.html" TargetMode="External"/><Relationship Id="rId2" Type="http://schemas.openxmlformats.org/officeDocument/2006/relationships/hyperlink" Target="http://mathworld.wolfram.com/UniversalTuringMachine.html" TargetMode="External"/><Relationship Id="rId3" Type="http://schemas.openxmlformats.org/officeDocument/2006/relationships/hyperlink" Target="http://en.wikipedia.org/wiki/Von_Neumann_architecture#References" TargetMode="External"/><Relationship Id="rId4" Type="http://schemas.openxmlformats.org/officeDocument/2006/relationships/hyperlink" Target="http://www-history.mcs.st-andrews.ac.uk/Mathematicians/Wiener_Norbert.html" TargetMode="External"/><Relationship Id="rId5" Type="http://schemas.openxmlformats.org/officeDocument/2006/relationships/hyperlink" Target="http://pespmc1.vub.ac.be/CYBSWHAT.html" TargetMode="External"/><Relationship Id="rId6" Type="http://schemas.openxmlformats.org/officeDocument/2006/relationships/hyperlink" Target="http://www.bell-labs.com/news/2001/february/26/1.html" TargetMode="External"/><Relationship Id="rId7" Type="http://schemas.openxmlformats.org/officeDocument/2006/relationships/hyperlink" Target="http://www.inference.phy.cam.ac.uk/mackay/info-theory/course.html" TargetMode="External"/><Relationship Id="rId8" Type="http://schemas.openxmlformats.org/officeDocument/2006/relationships/hyperlink" Target="http://www.cite-sciences.fr/francais/ala_cite/expo/explora/informatique/info_c.htm" TargetMode="External"/><Relationship Id="rId9" Type="http://schemas.openxmlformats.org/officeDocument/2006/relationships/hyperlink" Target="http://www.cite-sciences.fr/francais/ala_cite/expo/explora/informatique/info_c.htm" TargetMode="External"/><Relationship Id="rId10" Type="http://schemas.openxmlformats.org/officeDocument/2006/relationships/hyperlink" Target="http://www.cite-sciences.fr/francais/ala_cite/expo/explora/informatique/info_c.htm" TargetMode="External"/><Relationship Id="rId11" Type="http://schemas.openxmlformats.org/officeDocument/2006/relationships/hyperlink" Target="http://www.doc.ic.ac.uk/~nd/surprise_96/journal/vol4/cs11/report.html" TargetMode="External"/><Relationship Id="rId1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esearch.ibm.com/deepblue/" TargetMode="External"/><Relationship Id="rId2" Type="http://schemas.openxmlformats.org/officeDocument/2006/relationships/hyperlink" Target="http://www.ee.cooper.edu/courses/course_pages/past_courses/EE459/AIHO9/" TargetMode="External"/><Relationship Id="rId3" Type="http://schemas.openxmlformats.org/officeDocument/2006/relationships/hyperlink" Target="http://jerz.setonhill.edu/if/canon/eliza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rofiles.nlm.nih.gov/BB/A/L/Y/P/_/bbalyp.pdf" TargetMode="External"/><Relationship Id="rId2" Type="http://schemas.openxmlformats.org/officeDocument/2006/relationships/hyperlink" Target="http://www.computing.surrey.ac.uk/research/ai/PROFILE/mycin.html" TargetMode="External"/><Relationship Id="rId3" Type="http://schemas.openxmlformats.org/officeDocument/2006/relationships/hyperlink" Target="http://www.computing.surrey.ac.uk/ai/PROFILE/prospector.html" TargetMode="External"/><Relationship Id="rId4" Type="http://schemas.openxmlformats.org/officeDocument/2006/relationships/hyperlink" Target="http://www.mdbs.com/html/guru.html" TargetMode="External"/><Relationship Id="rId5" Type="http://schemas.openxmlformats.org/officeDocument/2006/relationships/hyperlink" Target="http://www.ghg.net/clips/WhatIsCLIPS.html" TargetMode="External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Artificial Intelligence</a:t>
            </a:r>
            <a:br>
              <a:rPr sz="4400"/>
            </a:b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An introduc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in Mi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RIS CNRS UMR 52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é Lyon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ormal systems for inference proces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build systems able to infer true things from other true things…(of the world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ic approa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l descri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tactic reform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antic decla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D91-6F01-438A-8D6F-D2B3CE0ABB8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4C31E-9487-4A48-A4A5-733DD834BF52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ormal syste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393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building a formal system, we need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lphabet, i.e. a set of symbols (not necessary character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cess to build expressions (not necessary concatenation) =&gt; Expression Building Process (EB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t of axioms , i.e. expressions written according to 1 and 2. These expressions belongs (arbitrarily) to the “system” (are “true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rivation rules which, starting from existing axioms, are able to produc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orem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xpressions belonging now to the system) and which can be applied (to produced theorems) in order to produce new 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9B52-F0AD-4474-9101-689C36DD52A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77F90-25CD-4FF6-8C5D-5D398ECDDA8A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ample of a formal system !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O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phabet = set of 3 symbols "p" , "e" , and “o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BP = concaten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xiom = opoeo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rivation rules 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1 : if an expression AeB is a theorem (where "A" and “B” stand for any suite of "o", "p", or "e"), then expression oAeBo is also a theor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2 : if an expression AeB is a theorem , then expression AoeoB is also a theor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1 = oopooeoooo is a theorem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2 = opooeoooo 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3 = opopoeooo ?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21FF-7C6D-4610-AB1E-E470BC26CA5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E0002-2AD5-46B1-9A8B-A8E66A300C68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orem demonstra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system i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mi-decid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cause we have a provable process to decide that an expression is a theorem, but we do not have a provable process to decide that an expression is not a theor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3240" y="126828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opoeo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559600" y="1484280"/>
            <a:ext cx="3569040" cy="944640"/>
            <a:chOff x="2559600" y="1484280"/>
            <a:chExt cx="3569040" cy="944640"/>
          </a:xfrm>
        </p:grpSpPr>
        <p:sp>
          <p:nvSpPr>
            <p:cNvPr id="76" name=""/>
            <p:cNvSpPr/>
            <p:nvPr/>
          </p:nvSpPr>
          <p:spPr>
            <a:xfrm>
              <a:off x="2559600" y="2060640"/>
              <a:ext cx="119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oopoeoo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35960" y="2060640"/>
              <a:ext cx="119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opooeoo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4" idx="2"/>
              <a:endCxn id="76" idx="0"/>
            </p:cNvCxnSpPr>
            <p:nvPr/>
          </p:nvCxnSpPr>
          <p:spPr>
            <a:xfrm flipH="1">
              <a:off x="3155400" y="1635120"/>
              <a:ext cx="1097640" cy="4262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74" idx="2"/>
              <a:endCxn id="77" idx="0"/>
            </p:cNvCxnSpPr>
            <p:nvPr/>
          </p:nvCxnSpPr>
          <p:spPr>
            <a:xfrm>
              <a:off x="4253040" y="1635120"/>
              <a:ext cx="1280160" cy="4262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3278880" y="14842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61440" y="15573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551960" y="2349360"/>
            <a:ext cx="3030120" cy="943200"/>
            <a:chOff x="1551960" y="2349360"/>
            <a:chExt cx="3030120" cy="943200"/>
          </a:xfrm>
        </p:grpSpPr>
        <p:sp>
          <p:nvSpPr>
            <p:cNvPr id="83" name=""/>
            <p:cNvSpPr/>
            <p:nvPr/>
          </p:nvSpPr>
          <p:spPr>
            <a:xfrm>
              <a:off x="1551960" y="292428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ooopoeooo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36320" y="292428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oopooeooo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5" name=""/>
            <p:cNvCxnSpPr>
              <a:stCxn id="76" idx="2"/>
              <a:endCxn id="83" idx="0"/>
            </p:cNvCxnSpPr>
            <p:nvPr/>
          </p:nvCxnSpPr>
          <p:spPr>
            <a:xfrm flipH="1">
              <a:off x="2274480" y="2426760"/>
              <a:ext cx="882000" cy="497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6" name=""/>
            <p:cNvCxnSpPr>
              <a:stCxn id="76" idx="2"/>
              <a:endCxn id="84" idx="0"/>
            </p:cNvCxnSpPr>
            <p:nvPr/>
          </p:nvCxnSpPr>
          <p:spPr>
            <a:xfrm>
              <a:off x="3155760" y="2426760"/>
              <a:ext cx="703800" cy="4978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1981800" y="234936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50160" y="242100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84360" y="5157720"/>
            <a:ext cx="6910200" cy="93528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you are humans (having learned mathematical addition) it should be helpful to read « p » as « plus », o as « one » and « e » as « equals » (opoeo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plus one equals one o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F19-245B-41D3-B483-87FF88F282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05921-2E21-4AEB-BF6B-149A91561BA2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t II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Base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=&gt; Knowledge Based Syste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413000"/>
            <a:ext cx="2663640" cy="266364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main knowle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Rules, constraints, cases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Axiom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4160" y="1268280"/>
            <a:ext cx="2663640" cy="2664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ts F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Axioms and Theorem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73440" y="2852640"/>
            <a:ext cx="1152360" cy="2592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3500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4160" y="3068640"/>
            <a:ext cx="790560" cy="431640"/>
          </a:xfrm>
          <a:prstGeom prst="leftRightArrow">
            <a:avLst>
              <a:gd name="adj1" fmla="val 50000"/>
              <a:gd name="adj2" fmla="val 36461"/>
            </a:avLst>
          </a:prstGeom>
          <a:solidFill>
            <a:srgbClr val="ffe7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429264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nds of possible requests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Is F12 inferable from F6 and F14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inferable from F2 or F7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F13 could be inferred (which Fi could lead to F13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76B-9E66-4EA4-A0A3-FDF19C60E9B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B4C84-EB59-46AF-A154-9401F55DE68B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 (simple) KB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phabet (symbo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ance_&lt;_2k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ance_&lt;_300k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lkin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velling_by_trai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velling_by_pla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ing_a_phon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ing_to_the_agenc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ing_the_agenc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ying_a_tick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p_duration_&gt;_2_day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ing_a_civil_servan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      /*(negation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^           /*(and, conjunction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&gt;          /*(implie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B1A-B248-400B-B85C-F48D5660A4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4922C-A65E-41FB-A1E7-181E41A5CDE9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ression Building Proces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ym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= (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= not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^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:=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&gt;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xpression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02F8-0EDE-4564-9290-8F3B91DB6B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B5EBC-868D-40C0-B9CF-925BC2021077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xio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1 : distance_&lt;_2km -&gt; wal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2 : ((not distance_&lt;_2km) ^ distance_&lt;_300km) -&gt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velling_by_t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3 : (not distance_&lt;_300km) -&gt; travelling_by_pl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4 : (buying_a_ticket ^ having_a_phone) -&gt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ing_the_ag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5 : (buying_a_ticket ^ (not having_a_phone)) -&gt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ing_to_the_ag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6 : travelling_by_plane -&gt; buying_a_ti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7 : (trip_duration.&gt;.2_days ^ being_a_civil_servant) -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not travelling_by_pla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1 : (not distance_&lt;_300k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2 : having_a_ph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FAFB-1731-48DC-BEF7-861C9F510C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6E4D2-CF20-4EB3-85C5-5641262C6AB2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ference Engin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281800" cy="511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 wo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ile it wo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 does’nt 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p on R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p on  not tagged F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Ri fits the pattern "Fj -&gt; Fk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Fk to F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gg Fj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 wo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p on F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 Ri fits the pattern "Fj ^ Fl -&gt;..."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add Fm = (Fj ^ Fl) to the Fact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gg F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 wor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loop /* F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loop /*F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loop /R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whi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D161-44E9-4D86-B553-BE260D55CAA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2A7B6-9297-4218-80F3-2D5D828EABA3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I – AI short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II – AI basics &gt; formal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III – Knowledge Based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IV – Knowledg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V -  Ont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VI – Case-Based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VII – AI challenges and AI for rob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5D7-780B-4C8F-83AB-7A0D811272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B3C82-0CCF-40BC-A7BE-84614FF97A98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ow things are called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axioms are called </a:t>
            </a: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part (of -&gt;) : premises (conjunction 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part (of -&gt;) : Consequents (conjunction 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 axioms are called </a:t>
            </a: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kind of Rule which doesn't need premises to be tr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h Rules and Facts are called “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Proposi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 and the paradigm is ca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Proposition logics” or “Order 0 logic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2839-CA8C-48E2-832F-9AB8A8BB0B7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C2B87-BFA1-4320-A6D6-79D506C06955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rom propositions to predicates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From 0 to first order logic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42720" y="2224080"/>
            <a:ext cx="342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Introduction of VARIABLES wi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istential Quant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niversal Quantif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878360" y="2421000"/>
                <a:ext cx="378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859280" y="2997360"/>
                <a:ext cx="41760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547640" y="3933720"/>
                <a:ext cx="62136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 destin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distanc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tination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walkin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tinatio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87CF-905F-4070-B17C-2788E301A51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85970-D8CD-45A8-B638-95D4DAD8EE4C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rogramming languages for AI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LISP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merican: Mac Carth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PROLO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rance ! Colmerau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mallTalk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bject Langu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 Langu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YAFOO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Yet Another Frame based Object Oriente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KL-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Knowledge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Description log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E8C-B36C-4A09-BF75-4DCA5706806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A82867-0691-4989-9CA2-25A98A7A92E4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Knowledge Based Systems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s based K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les and facts + inference eng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t Systems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ision Hel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701"/>
                </a:solidFill>
                <a:latin typeface="Arial"/>
              </a:rPr>
              <a:t>=&gt; Challenge: how the set of rules and facts can be acquired and maintained -&gt; Knowledge Engine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70E-57CA-4ED9-B326-24A25FE3EE3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69C4A-1F87-46BA-AF79-FCC003C62FE8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t IV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Knowledg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394920" y="4868640"/>
            <a:ext cx="7777080" cy="1368360"/>
            <a:chOff x="394920" y="4868640"/>
            <a:chExt cx="7777080" cy="1368360"/>
          </a:xfrm>
        </p:grpSpPr>
        <p:sp>
          <p:nvSpPr>
            <p:cNvPr id="121" name=""/>
            <p:cNvSpPr/>
            <p:nvPr/>
          </p:nvSpPr>
          <p:spPr>
            <a:xfrm rot="10800000">
              <a:off x="394920" y="4868280"/>
              <a:ext cx="7777080" cy="1368360"/>
            </a:xfrm>
            <a:custGeom>
              <a:avLst/>
              <a:gdLst>
                <a:gd name="textAreaLeft" fmla="*/ 1338840 w 7777080"/>
                <a:gd name="textAreaRight" fmla="*/ 5749200 w 7777080"/>
                <a:gd name="textAreaTop" fmla="*/ 183240 h 1368360"/>
                <a:gd name="textAreaBottom" fmla="*/ 11851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437" hR="21600" stAng="10800000" swAng="5400000"/>
                  <a:lnTo>
                    <a:pt x="12249" y="0"/>
                  </a:lnTo>
                  <a:arcTo wR="7437" hR="21600" stAng="-5400000" swAng="2654447"/>
                  <a:lnTo>
                    <a:pt x="21175" y="14400"/>
                  </a:lnTo>
                  <a:lnTo>
                    <a:pt x="17280" y="21600"/>
                  </a:lnTo>
                  <a:lnTo>
                    <a:pt x="12535" y="14400"/>
                  </a:lnTo>
                  <a:lnTo>
                    <a:pt x="14449" y="14400"/>
                  </a:lnTo>
                  <a:arcTo wR="7437" hR="21600" stAng="-2745553" swAng="-2251610"/>
                  <a:lnTo>
                    <a:pt x="9843" y="1162"/>
                  </a:lnTo>
                  <a:arcTo wR="7437" hR="21600" stAng="-5802836" swAng="-4997164"/>
                  <a:close/>
                </a:path>
                <a:path fill="darkenLess" w="21600" h="21600">
                  <a:moveTo>
                    <a:pt x="0" y="21600"/>
                  </a:moveTo>
                  <a:arcTo wR="7437" hR="21600" stAng="10800000" swAng="5400000"/>
                  <a:lnTo>
                    <a:pt x="7437" y="0"/>
                  </a:lnTo>
                  <a:arcTo wR="7437" hR="21600" stAng="-5400000" swAng="402836"/>
                  <a:lnTo>
                    <a:pt x="9843" y="1162"/>
                  </a:lnTo>
                  <a:arcTo wR="7437" hR="21600" stAng="-5802836" swAng="-4997164"/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65640" y="5465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cffff"/>
                </a:solidFill>
                <a:latin typeface="Arial"/>
              </a:rPr>
              <a:t>Knowledge Engineering: Why?</a:t>
            </a:r>
            <a:endParaRPr b="0" lang="en-US" sz="37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2781360"/>
            <a:ext cx="2144520" cy="2179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516720" y="3357720"/>
            <a:ext cx="1824120" cy="1120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708360" y="1844640"/>
            <a:ext cx="1808280" cy="1914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40000" y="1628640"/>
            <a:ext cx="5545080" cy="1584360"/>
          </a:xfrm>
          <a:custGeom>
            <a:avLst/>
            <a:gdLst>
              <a:gd name="textAreaLeft" fmla="*/ 970200 w 5545080"/>
              <a:gd name="textAreaRight" fmla="*/ 4020120 w 5545080"/>
              <a:gd name="textAreaTop" fmla="*/ 212040 h 1584360"/>
              <a:gd name="textAreaBottom" fmla="*/ 1372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600" y="5084640"/>
            <a:ext cx="2501640" cy="3682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« world » to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6000" y="5013360"/>
            <a:ext cx="3097080" cy="916920"/>
          </a:xfrm>
          <a:prstGeom prst="rect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owledge Base « representing »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mbolic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7F8F-912D-47F6-849F-2329CCAA79C4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CD437-2F86-4986-8362-5A87FCE07E19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rot="10800000">
            <a:off x="395280" y="4797360"/>
            <a:ext cx="4248000" cy="1440000"/>
          </a:xfrm>
          <a:custGeom>
            <a:avLst/>
            <a:gdLst>
              <a:gd name="textAreaLeft" fmla="*/ 731160 w 4248000"/>
              <a:gd name="textAreaRight" fmla="*/ 3140280 w 424800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7" hR="21600" stAng="10800000" swAng="5400000"/>
                <a:lnTo>
                  <a:pt x="12249" y="0"/>
                </a:lnTo>
                <a:arcTo wR="7437" hR="21600" stAng="-5400000" swAng="2654447"/>
                <a:lnTo>
                  <a:pt x="21175" y="14400"/>
                </a:lnTo>
                <a:lnTo>
                  <a:pt x="17280" y="21600"/>
                </a:lnTo>
                <a:lnTo>
                  <a:pt x="12535" y="14400"/>
                </a:lnTo>
                <a:lnTo>
                  <a:pt x="14449" y="14400"/>
                </a:lnTo>
                <a:arcTo wR="7437" hR="21600" stAng="-2745553" swAng="-2251610"/>
                <a:lnTo>
                  <a:pt x="9843" y="1162"/>
                </a:lnTo>
                <a:arcTo wR="7437" hR="21600" stAng="-5802836" swAng="-4997164"/>
                <a:close/>
              </a:path>
              <a:path fill="darkenLess" w="21600" h="21600">
                <a:moveTo>
                  <a:pt x="0" y="21600"/>
                </a:moveTo>
                <a:arcTo wR="7437" hR="21600" stAng="10800000" swAng="5400000"/>
                <a:lnTo>
                  <a:pt x="7437" y="0"/>
                </a:lnTo>
                <a:arcTo wR="7437" hR="21600" stAng="-5400000" swAng="402836"/>
                <a:lnTo>
                  <a:pt x="9843" y="1162"/>
                </a:lnTo>
                <a:arcTo wR="7437" hR="21600" stAng="-5802836" swAng="-4997164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ffff"/>
                </a:solidFill>
                <a:latin typeface="Arial"/>
              </a:rPr>
              <a:t>Alan Newell idea [1982]: modeling the world at a “KNOWLEDGE LEVEL”</a:t>
            </a:r>
            <a:endParaRPr b="0" lang="en-US" sz="33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1771920" cy="1800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732720" y="3573360"/>
            <a:ext cx="1823760" cy="1121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908000" y="1916280"/>
            <a:ext cx="1155960" cy="1223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26920" y="1341360"/>
            <a:ext cx="3816360" cy="1871640"/>
          </a:xfrm>
          <a:custGeom>
            <a:avLst/>
            <a:gdLst>
              <a:gd name="textAreaLeft" fmla="*/ 667800 w 3816360"/>
              <a:gd name="textAreaRight" fmla="*/ 2766960 w 3816360"/>
              <a:gd name="textAreaTop" fmla="*/ 250560 h 1871640"/>
              <a:gd name="textAreaBottom" fmla="*/ 162108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16360" y="3284640"/>
            <a:ext cx="3095640" cy="1512720"/>
          </a:xfrm>
          <a:prstGeom prst="rect">
            <a:avLst/>
          </a:prstGeom>
          <a:solidFill>
            <a:srgbClr val="00b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mediate knowledge representation « understandable » by both humans and comput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Knowledge Lev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1484280"/>
            <a:ext cx="3961080" cy="1727280"/>
          </a:xfrm>
          <a:custGeom>
            <a:avLst/>
            <a:gdLst>
              <a:gd name="textAreaLeft" fmla="*/ 693000 w 3961080"/>
              <a:gd name="textAreaRight" fmla="*/ 2871720 w 3961080"/>
              <a:gd name="textAreaTop" fmla="*/ 231120 h 1727280"/>
              <a:gd name="textAreaBottom" fmla="*/ 149616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656320" y="1989000"/>
            <a:ext cx="1363680" cy="1295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rot="10800000">
            <a:off x="4211640" y="4797000"/>
            <a:ext cx="3960720" cy="1297080"/>
          </a:xfrm>
          <a:custGeom>
            <a:avLst/>
            <a:gdLst>
              <a:gd name="textAreaLeft" fmla="*/ 681840 w 3960720"/>
              <a:gd name="textAreaRight" fmla="*/ 2927880 w 3960720"/>
              <a:gd name="textAreaTop" fmla="*/ 173520 h 1297080"/>
              <a:gd name="textAreaBottom" fmla="*/ 11235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7" hR="21600" stAng="10800000" swAng="5400000"/>
                <a:lnTo>
                  <a:pt x="12249" y="0"/>
                </a:lnTo>
                <a:arcTo wR="7437" hR="21600" stAng="-5400000" swAng="2654447"/>
                <a:lnTo>
                  <a:pt x="21175" y="14400"/>
                </a:lnTo>
                <a:lnTo>
                  <a:pt x="17280" y="21600"/>
                </a:lnTo>
                <a:lnTo>
                  <a:pt x="12535" y="14400"/>
                </a:lnTo>
                <a:lnTo>
                  <a:pt x="14449" y="14400"/>
                </a:lnTo>
                <a:arcTo wR="7437" hR="21600" stAng="-2745553" swAng="-2251610"/>
                <a:lnTo>
                  <a:pt x="9843" y="1162"/>
                </a:lnTo>
                <a:arcTo wR="7437" hR="21600" stAng="-5802836" swAng="-4997164"/>
                <a:close/>
              </a:path>
              <a:path fill="darkenLess" w="21600" h="21600">
                <a:moveTo>
                  <a:pt x="0" y="21600"/>
                </a:moveTo>
                <a:arcTo wR="7437" hR="21600" stAng="10800000" swAng="5400000"/>
                <a:lnTo>
                  <a:pt x="7437" y="0"/>
                </a:lnTo>
                <a:arcTo wR="7437" hR="21600" stAng="-5400000" swAng="402836"/>
                <a:lnTo>
                  <a:pt x="9843" y="1162"/>
                </a:lnTo>
                <a:arcTo wR="7437" hR="21600" stAng="-5802836" swAng="-4997164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13640" y="4889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0160" y="530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600" y="5084640"/>
            <a:ext cx="2501640" cy="3682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« world » to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5013360"/>
            <a:ext cx="3097080" cy="916920"/>
          </a:xfrm>
          <a:prstGeom prst="rect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owledge Base « representing »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ymbolic Lev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EDF-CF43-4FF4-99BA-83C79B6143A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64D57-D79E-41C2-A226-F8FEDF259FEC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Knowledge Level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 abstraction for conceptualizing it (concepts and relationships + interaction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gical semantic will be described in order to allow computer calculations on the Doma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&gt; Domain The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ediate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le to represent efficiently concepts, relations and interactions for human interpretatio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able to specify a corresponding logical semantic for computers calc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D50-901B-4C79-B66E-A0D287E3F71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CD94F-268E-489D-8F65-08647F0BCC4D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del Driven Knowledge Acquisi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6920" y="2349360"/>
            <a:ext cx="15904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rts /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69000" y="3484440"/>
            <a:ext cx="31831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ptual Model 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45000" y="4653000"/>
            <a:ext cx="33109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ptual Model Instant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87560" y="5573880"/>
            <a:ext cx="13723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BS 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2276640"/>
            <a:ext cx="2447640" cy="57600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structured Experti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508720" y="2924280"/>
            <a:ext cx="1225080" cy="1225440"/>
            <a:chOff x="5508720" y="2924280"/>
            <a:chExt cx="1225080" cy="1225440"/>
          </a:xfrm>
        </p:grpSpPr>
        <p:sp>
          <p:nvSpPr>
            <p:cNvPr id="153" name=""/>
            <p:cNvSpPr/>
            <p:nvPr/>
          </p:nvSpPr>
          <p:spPr>
            <a:xfrm>
              <a:off x="5508720" y="306864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84720" y="378936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00720" y="292428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941800" y="3068640"/>
              <a:ext cx="35856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25800" y="3429000"/>
              <a:ext cx="35856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6229080" y="3284640"/>
              <a:ext cx="28872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659640" y="4221000"/>
            <a:ext cx="1225080" cy="1225440"/>
            <a:chOff x="6659640" y="4221000"/>
            <a:chExt cx="1225080" cy="1225440"/>
          </a:xfrm>
        </p:grpSpPr>
        <p:sp>
          <p:nvSpPr>
            <p:cNvPr id="160" name=""/>
            <p:cNvSpPr/>
            <p:nvPr/>
          </p:nvSpPr>
          <p:spPr>
            <a:xfrm>
              <a:off x="6659640" y="436536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5640" y="508608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51640" y="422100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092720" y="4365360"/>
              <a:ext cx="35856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76720" y="4725720"/>
              <a:ext cx="35856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380000" y="4581360"/>
              <a:ext cx="28872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804000" y="4005360"/>
            <a:ext cx="1225080" cy="1225440"/>
            <a:chOff x="6804000" y="4005360"/>
            <a:chExt cx="1225080" cy="1225440"/>
          </a:xfrm>
        </p:grpSpPr>
        <p:sp>
          <p:nvSpPr>
            <p:cNvPr id="167" name=""/>
            <p:cNvSpPr/>
            <p:nvPr/>
          </p:nvSpPr>
          <p:spPr>
            <a:xfrm>
              <a:off x="6804000" y="414972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80000" y="487044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96000" y="4005360"/>
              <a:ext cx="433080" cy="360360"/>
            </a:xfrm>
            <a:prstGeom prst="rect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237080" y="4149720"/>
              <a:ext cx="358560" cy="14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21080" y="4510080"/>
              <a:ext cx="35856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524360" y="4365720"/>
              <a:ext cx="28872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7451640" y="5661000"/>
            <a:ext cx="1224000" cy="4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3280" y="2060640"/>
            <a:ext cx="3313080" cy="216000"/>
          </a:xfrm>
          <a:custGeom>
            <a:avLst/>
            <a:gdLst>
              <a:gd name="textAreaLeft" fmla="*/ 579600 w 3313080"/>
              <a:gd name="textAreaRight" fmla="*/ 2401920 w 331308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642200">
            <a:off x="4500720" y="2923920"/>
            <a:ext cx="1223640" cy="1368360"/>
          </a:xfrm>
          <a:custGeom>
            <a:avLst/>
            <a:gdLst>
              <a:gd name="textAreaLeft" fmla="*/ 163800 w 1223640"/>
              <a:gd name="textAreaRight" fmla="*/ 1059840 w 122364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9642200">
            <a:off x="5292720" y="4005360"/>
            <a:ext cx="1224000" cy="136836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9642200">
            <a:off x="6084360" y="5084640"/>
            <a:ext cx="1224000" cy="1368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239400 h 1368720"/>
              <a:gd name="textAreaBottom" fmla="*/ 99252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00160" y="323208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ptu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22600" y="4508640"/>
            <a:ext cx="20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ptu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300640"/>
            <a:ext cx="864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7080" y="4168800"/>
            <a:ext cx="13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7800" y="544500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Symb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869-79FA-4611-9A3D-001F9FF26FE1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88BEE-4041-46FE-9D56-BA73543AF773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nceptual Mode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ing Domain Knowledge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nipulated concepts + relationships / considering some tas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ing how a task has to be realized on the base of Domain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398-64AD-4E1E-B01A-0DA85F53997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3F903-779F-442C-A260-AED62368A636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t 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I shor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Knowledge Analysis and Design System (</a:t>
            </a:r>
            <a:r>
              <a:rPr b="0" lang="en-US" sz="40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KADS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844640"/>
            <a:ext cx="2950920" cy="1008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lem solving behavio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19640" y="1700280"/>
            <a:ext cx="2665440" cy="115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eptual Mod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3429000"/>
            <a:ext cx="2664000" cy="86364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64000" y="4653000"/>
            <a:ext cx="2665440" cy="115236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4836240"/>
            <a:ext cx="2665440" cy="6426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owledge Based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234936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88000" y="4292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564000" y="51577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2680" y="285912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pretation 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vocabulary, generic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843280" y="2420640"/>
            <a:ext cx="100800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22720" y="380844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 Techniques, Methods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resen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995640" y="4076640"/>
            <a:ext cx="1440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0B3-7C62-4A9E-A013-4488762C06F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1B949-CC6F-42DE-A64B-01D37BE12C0E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KADS : Knowledge Engineeri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8000" y="1309680"/>
            <a:ext cx="815004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38C-E9E9-45A0-9DA4-0581E2BDD85D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88D19-022E-4017-B743-365F7A7922D7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t V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t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Domain theory as an ontolog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Knowledge Based Systems remain difficult to build and maintain, b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or knowledge managemen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For knowledge sharing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nd, in the general scope of the Semantic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ntologies took a big place in AI research an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629-9D54-4860-B17D-B77C6600F0D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BA05D-23EC-42E7-8C0E-8528CFF9D0BC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NTOLOGY?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pecific </a:t>
            </a:r>
            <a:r>
              <a:rPr b="0" i="1" lang="en-US" sz="3200" spc="-1" strike="noStrike">
                <a:solidFill>
                  <a:srgbClr val="ffe701"/>
                </a:solidFill>
                <a:latin typeface="Arial"/>
              </a:rPr>
              <a:t>ARTIFA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signed for expressing the </a:t>
            </a:r>
            <a:r>
              <a:rPr b="0" i="1" lang="en-US" sz="3200" spc="-1" strike="noStrike">
                <a:solidFill>
                  <a:srgbClr val="ffe701"/>
                </a:solidFill>
                <a:latin typeface="Arial"/>
              </a:rPr>
              <a:t>intended meani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a </a:t>
            </a:r>
            <a:r>
              <a:rPr b="0" i="1" lang="en-US" sz="3200" spc="-1" strike="noStrike">
                <a:solidFill>
                  <a:srgbClr val="ffe701"/>
                </a:solidFill>
                <a:latin typeface="Arial"/>
              </a:rPr>
              <a:t>shared 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ha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vocabulary + a </a:t>
            </a: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specifica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its intended mea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 An ontology is a specification of a conceptualization » [Gruber 95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&gt; an ontology accounts for the </a:t>
            </a:r>
            <a:r>
              <a:rPr b="0" i="1" lang="en-US" sz="3200" spc="-1" strike="noStrike">
                <a:solidFill>
                  <a:srgbClr val="ffe701"/>
                </a:solidFill>
                <a:latin typeface="Arial"/>
              </a:rPr>
              <a:t>commitme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a language to a certain </a:t>
            </a:r>
            <a:r>
              <a:rPr b="0" i="1" lang="en-US" sz="3200" spc="-1" strike="noStrike">
                <a:solidFill>
                  <a:srgbClr val="ffe701"/>
                </a:solidFill>
                <a:latin typeface="Arial"/>
              </a:rPr>
              <a:t>conceptualizatio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B39-8CB3-4333-8395-53400E3E46C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BEA05-9F9C-4D8E-B50B-339CAED2F192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Ontology </a:t>
            </a:r>
            <a:r>
              <a:rPr b="0" lang="fr-FR" sz="4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Examp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22000" y="143208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82000" y="2152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9960" y="2205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1800" y="2781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45440" y="2997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2720" y="3645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ul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60720" y="364500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s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413800" y="364500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tiveStaf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1440" y="43657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f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8160" y="4869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34520" y="5373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276720" y="1773360"/>
            <a:ext cx="1224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859280" y="1773360"/>
            <a:ext cx="216072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476360" y="2491920"/>
            <a:ext cx="13669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203280" y="2491920"/>
            <a:ext cx="1584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900000" y="3068640"/>
            <a:ext cx="287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1331640" y="306828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618920" y="3141720"/>
            <a:ext cx="129708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684000" y="3860640"/>
            <a:ext cx="21564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971640" y="4005360"/>
            <a:ext cx="57600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042920" y="3933360"/>
            <a:ext cx="115272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35280" y="3933360"/>
            <a:ext cx="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834920" y="3933720"/>
            <a:ext cx="360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916360" y="3933360"/>
            <a:ext cx="2872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3203280" y="3933720"/>
            <a:ext cx="360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003640" y="3357720"/>
            <a:ext cx="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5076360" y="3357720"/>
            <a:ext cx="358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804000" y="2565000"/>
            <a:ext cx="36036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7236000" y="2492280"/>
            <a:ext cx="28872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5589720"/>
            <a:ext cx="865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87440" y="539280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A re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2B0-B182-4F59-94BF-38667B591D27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747CD-3287-44C0-AC7B-3AB1731C7194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Different classes of ontologi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280360" cy="43228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420720" y="5734080"/>
            <a:ext cx="28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[from </a:t>
            </a:r>
            <a:r>
              <a:rPr b="0" lang="fr-FR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loa-cnr.it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0E74-4B7E-4ECE-B380-0D26E99F4DCE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E0368-F593-47F9-B87F-F459BB5BD6CE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ore about ontologies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ite with links for anything you need for going further and mastering ontologies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cs.utexas.edu/users/mfkb/related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rench web site about Knowledge Enginee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http://www.irit.fr/GRACQ/index-bib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nice tutorial about ontologies (in frenc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www.irit.fr/GRACQ/COURS/CoursFabienGandon.ht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ther tutorial about ontologies (in englis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http://www.loa-cnr.it/odcm.htm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2BD-F9FC-459B-AF9F-F7D882463BA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76721-C060-4D14-A5BE-21CB483772BE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t V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nalogical Reaso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=&g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ase Based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ffff"/>
                </a:solidFill>
                <a:latin typeface="Arial"/>
              </a:rPr>
              <a:t>Beyond « logical » systems, the analogical approach: Case Based-Reasoning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irst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rvin Minsky (a frame based model for memory)  [1975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oger Schank (scripts for understanding natural language) [1982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Janet Kolodner (Case-Based Reasoning as a central research object)[1993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44E-B944-44A2-9909-0D3C55DAC1E2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EFEB4-2737-47B3-8239-0670FA79BE06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rtificial intelligence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…born only few years after computers…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s://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aaai.org/AITopics/html/history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ial birth date : 1956, Darmouth College (New Hampshire, US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McCarthy (logics suppor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vin Minsky (dynamic schemes suppor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« thinking machines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82C-BAF7-4025-9687-0D2EBFBD02C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96236-10E3-4C2F-9358-5E3DDFA57187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Case-Based Reasoning Cyc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769440" cy="512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078-4FF7-4D6B-9669-11FE7F016BE3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5629A-95C0-49F3-A00E-412DA2B67902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CBR: the reasoning kernel (1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209080" cy="482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4849-E65A-44BB-AA86-86BC580B96BB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13395-AD4A-4F06-A29D-F611584D8FF5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CBR: the reasoning kernel (2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7561440" cy="493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D4CB-3F66-424F-A122-D2D00E1F808F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35E04-0B44-4F1E-80B6-7E23C69A50FA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CBR: simple example (1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24000" y="1406520"/>
            <a:ext cx="8424720" cy="45784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2050920" y="3068640"/>
            <a:ext cx="3529080" cy="360360"/>
          </a:xfrm>
          <a:prstGeom prst="rect">
            <a:avLst/>
          </a:prstGeom>
          <a:solidFill>
            <a:srgbClr val="ffe701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B45-4A40-48EF-831F-31A65D2A06F5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0275C-0BA4-43BA-9CCD-2BF6ACD4010A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CBR example (2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8424720" cy="3571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995640" y="3789360"/>
            <a:ext cx="4105440" cy="1511280"/>
          </a:xfrm>
          <a:prstGeom prst="rect">
            <a:avLst/>
          </a:prstGeom>
          <a:solidFill>
            <a:srgbClr val="ffe701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7A3-E93D-4724-AEFD-239D2653BA8B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B48A5-A95F-4A32-B473-9B1E1E3DE9A6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CBR useful point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enge Tool (http://www.empolis.com/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idara (http://www.kaidara.com/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eBan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colibri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 community website (no more maintaine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id Aha web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4D7-6D68-4A08-8D47-AE8D69F556A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28A1A-0BD9-4E1A-84DE-C278BEB8FF46}" type="datetime2">
              <a:rPr lang="en-US"/>
              <a:t>Tuesday, July 28, 20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t VI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I new challe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I and Robo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I Challen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and situated knowledge and reasoning (Robotics, help desk, semantic web, 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 learning / Machine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terogeneous agents inte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gnition as knowledge emerg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 Biologically inspire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 Continuous learning man-machin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gt; Situated Cognition, Distributed Cognition, Multi-agent paradigm, Dynamic neural networks 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420-7027-4D09-A6A6-E647BD972160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855A1-7602-492A-BC0C-0409E7F44C2E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ffff"/>
                </a:solidFill>
                <a:latin typeface="Arial"/>
              </a:rPr>
              <a:t>AI and Robotics</a:t>
            </a:r>
            <a:br>
              <a:rPr sz="4000"/>
            </a:br>
            <a:r>
              <a:rPr b="0" lang="fr-FR" sz="2800" spc="-1" strike="noStrike">
                <a:solidFill>
                  <a:srgbClr val="ccffff"/>
                </a:solidFill>
                <a:latin typeface="Arial"/>
              </a:rPr>
              <a:t>http://www.faculty.ucr.edu/~currie/roboadam.htm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Definition of a Robo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ccording to The Robot Institute of America (1979) :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"A reprogrammable, multifunctional manipulator designed to move materials, parts, tools, or specialized devices through various programmed motions for the performance of a variety of tasks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ccording to the Webster dictionary: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"An automatic device that performs functions normally ascribed to humans or a machine in the form of a human (Webster, 1993)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380-E01E-40A6-9FCE-77F7795DCFDE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C10FC-D791-40A9-95DC-EAC351D699B9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AI Robotics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892240" cy="20383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3156120" cy="43768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4572000" y="2349360"/>
            <a:ext cx="4235400" cy="387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18C1-3F80-4C2F-80B1-A7DA56B77126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D42BF-508C-4DCE-8537-0CC7CAB33A2B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ione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1936]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Tur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Universal Turing Mach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1945]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Von Neumann : computer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1948]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Wien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cybernetic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1948]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6"/>
              </a:rPr>
              <a:t>Shann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7"/>
              </a:rPr>
              <a:t>information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1949]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8"/>
              </a:rPr>
              <a:t>Mc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9"/>
              </a:rPr>
              <a:t>Culloch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0"/>
              </a:rPr>
              <a:t> and Pit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1"/>
              </a:rPr>
              <a:t>neural network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hysiological approa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0F9-97FD-4D73-85C4-44C9D239EF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A6464-9048-40C3-970E-172FFFBED4E1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AI and Robotic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716360" y="1197000"/>
            <a:ext cx="3486240" cy="546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108000" y="1197000"/>
            <a:ext cx="4176720" cy="24526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3759120" cy="25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8A96-6CA9-4C82-BBCB-10CC992437D2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C61DB-2184-4C3C-8715-20DD34816D9F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AI and Robotic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076720" y="2205000"/>
            <a:ext cx="2471760" cy="3240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4444920" cy="33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0B3A-0E17-48ED-A7ED-72B0B803CBBE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152B4-8467-4CB6-9F72-97E2FD6F77C3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AI and Robotic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54720" y="1792440"/>
            <a:ext cx="6310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ny AIBO … http://www.eu.aibo.com/5_1_casestudies.as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nydog1.m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acting to face to face interaction : kismet.m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Biorobobics -&gt; a cricke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284720" y="3357720"/>
            <a:ext cx="3566880" cy="267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1F7-9D76-47F2-BADA-C2B92130C8A0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5FD26-F882-40F1-9505-97D2A06BD007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New ways of moving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19280" y="2421000"/>
            <a:ext cx="5905440" cy="2232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hinking Machines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BC6-119C-44E4-A3EE-BAD14D61862F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6589D-C2C2-4FDC-9A0B-E57EA880E709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ffff"/>
                </a:solidFill>
                <a:latin typeface="Arial"/>
              </a:rPr>
              <a:t>The end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ny ques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515-24FE-41C5-83F1-D54055B5F4B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F033C-E87A-4E28-8A6A-0BA3B9167435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rst AI progra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ell, Simon and Shaw write a program in logics for theorem proof [1956!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generalize the process through what they call a GENERAL PROBLEM SOLVER (GPS). A GPS solves a problem by exploring possible </a:t>
            </a: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ways to go from an initial state to a state satisfying the goal to reach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set of operators allows to move from one state to one another. </a:t>
            </a:r>
            <a:r>
              <a:rPr b="0" i="1" lang="en-US" sz="2800" spc="-1" strike="noStrike">
                <a:solidFill>
                  <a:srgbClr val="ffe701"/>
                </a:solidFill>
                <a:latin typeface="Arial"/>
              </a:rPr>
              <a:t>A path going from the starting state to a state satisfying the goal is a solu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the optimal solution is the shortest path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1C3E-C427-4FCF-9A7F-7865ABA6574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B67D8-27B7-4F3D-A9A9-06DF66D584E7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irst challenges…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s playing chess -&gt; first win in 1997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Deep Blue wins Kaspar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Q Test (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Evans 196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: finding “logical” mapping between series of pic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t Solving Approach (Waltz 197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language” processing (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Eliz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eizenbaum 1965) (SHRDLU, Winograd 197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3890-F528-490F-A8F6-3079DCF6B59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D1854-255D-484B-9BCF-E440D9D445FE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xpert System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seventies, eighties, until now…] a dream…or a nightma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DENDR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hemical applic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MYC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edical application -&gt; THE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say II (Speech understand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Prospect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Geolog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t Systems Gen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GU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5"/>
              </a:rPr>
              <a:t>CL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2EC-D7A1-47E1-9F92-5BCE464BC5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A6185-50B3-4118-BFAC-05EB6C335927}" type="datetime2">
              <a:rPr lang="en-US"/>
              <a:t>Tuesday, 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art I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I Bas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ormal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9:28:08Z</dcterms:created>
  <dc:creator>Alain Mille</dc:creator>
  <dc:description/>
  <dc:language>en-US</dc:language>
  <cp:lastModifiedBy>Alain Mille</cp:lastModifiedBy>
  <dcterms:modified xsi:type="dcterms:W3CDTF">2006-04-06T20:27:17Z</dcterms:modified>
  <cp:revision>20</cp:revision>
  <dc:subject/>
  <dc:title>Bases de l’intelligence artificielle</dc:title>
</cp:coreProperties>
</file>